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74400" y="1092240"/>
            <a:ext cx="479412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52640" y="1092240"/>
            <a:ext cx="524484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52640" y="1092240"/>
            <a:ext cx="524484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A5F-C085-43AC-884A-9CAFFB6D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196-B599-4DD3-ABD0-B57DCF12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F52-02F9-439E-A551-0068CAAD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44D-8A65-4ECE-8CD9-DB92B25A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1240" y="580680"/>
            <a:ext cx="8601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140-1948-4557-93D7-28264C7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834-4C70-4458-AF7D-A74810C6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41240" y="580680"/>
            <a:ext cx="8601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F30-42BD-48F8-AE89-48A877FF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1240" y="580680"/>
            <a:ext cx="8601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6D1-59F5-48D7-A3B3-4A7E2E18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80680"/>
            <a:ext cx="8601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B37-AC77-4FC2-8AB0-EAF8C7E2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F89-E88F-4E1E-883E-DBE4830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1F4-CC04-412A-9F30-C2AE6C3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214-D96C-4CFC-BC3E-9985190D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6FB47-57E2-4F8C-8D8C-DA26E36988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0" y="612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4380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8900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1240" y="1596960"/>
            <a:ext cx="86011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025FE-EF21-4307-B202-95AE46FCB3A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644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-1447920"/>
            <a:ext cx="8607600" cy="54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640" y="1476000"/>
            <a:ext cx="878832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опросы выбора модели научно-информационного центра НТБ ДонНТУ в условиях глобальной информатизации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b6b"/>
                </a:solidFill>
                <a:latin typeface="Times New Roman"/>
              </a:rPr>
              <a:t>Теоретический анализ последних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b6b"/>
                </a:solidFill>
                <a:latin typeface="Times New Roman"/>
              </a:rPr>
              <a:t>исследований и публикаций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98a8a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198a8a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5c8526"/>
                </a:solidFill>
                <a:latin typeface="Times New Roman"/>
              </a:rPr>
              <a:t>Готовцева Любовь Сергеевна</a:t>
            </a:r>
            <a:endParaRPr b="0" lang="en-US" sz="3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198a8a"/>
                </a:solidFill>
                <a:latin typeface="Times New Roman"/>
              </a:rPr>
              <a:t>                                </a:t>
            </a:r>
            <a:r>
              <a:rPr b="1" lang="en-US" sz="3000" spc="-1" strike="noStrike">
                <a:solidFill>
                  <a:srgbClr val="198a8a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666600"/>
                </a:solidFill>
                <a:latin typeface="Times New Roman"/>
              </a:rPr>
              <a:t>Главный библиотекарь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66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666600"/>
                </a:solidFill>
                <a:latin typeface="Times New Roman"/>
              </a:rPr>
              <a:t>научно-методического отдела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41440" y="115920"/>
            <a:ext cx="9036000" cy="1295280"/>
            <a:chOff x="541440" y="115920"/>
            <a:chExt cx="9036000" cy="1295280"/>
          </a:xfrm>
        </p:grpSpPr>
        <p:sp>
          <p:nvSpPr>
            <p:cNvPr id="179" name=""/>
            <p:cNvSpPr/>
            <p:nvPr/>
          </p:nvSpPr>
          <p:spPr>
            <a:xfrm>
              <a:off x="1008000" y="105408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08000" y="112536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08000" y="119700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41440" y="11592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 txBox="1"/>
            <p:nvPr/>
          </p:nvSpPr>
          <p:spPr>
            <a:xfrm>
              <a:off x="3205080" y="26028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60360" y="1582560"/>
            <a:ext cx="93614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4c1900"/>
                </a:solidFill>
                <a:latin typeface="Times New Roman"/>
              </a:rPr>
              <a:t>Задача библиотеки вуза —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4c1900"/>
                </a:solidFill>
                <a:latin typeface="Times New Roman"/>
              </a:rPr>
              <a:t>управление процессами функционирования информационной среды учебного за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координация документообор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создание информационного ресур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организация свободного доступа к не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обеспечение его сохра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формирование условий представления   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информационных услу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-  развитие информационной культуры       потребител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31640" y="108000"/>
            <a:ext cx="9036000" cy="1295280"/>
            <a:chOff x="431640" y="108000"/>
            <a:chExt cx="9036000" cy="1295280"/>
          </a:xfrm>
        </p:grpSpPr>
        <p:sp>
          <p:nvSpPr>
            <p:cNvPr id="186" name=""/>
            <p:cNvSpPr/>
            <p:nvPr/>
          </p:nvSpPr>
          <p:spPr>
            <a:xfrm>
              <a:off x="898200" y="104616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98200" y="11174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98200" y="118908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31640" y="10800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 txBox="1"/>
            <p:nvPr/>
          </p:nvSpPr>
          <p:spPr>
            <a:xfrm>
              <a:off x="3095280" y="25236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41240" y="1403280"/>
            <a:ext cx="860760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c1900"/>
                </a:solidFill>
                <a:latin typeface="Times New Roman"/>
              </a:rPr>
              <a:t>Этапы внед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c1900"/>
                </a:solidFill>
                <a:latin typeface="Times New Roman"/>
              </a:rPr>
              <a:t>инновационных технолог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b6b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006b6b"/>
                </a:solidFill>
                <a:latin typeface="Times New Roman"/>
              </a:rPr>
              <a:t>Модерн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b6b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6b6b"/>
                </a:solidFill>
                <a:latin typeface="Times New Roman"/>
              </a:rPr>
              <a:t>Иннов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b6b"/>
                </a:solidFill>
                <a:latin typeface="Times New Roman"/>
              </a:rPr>
              <a:t>3. Трансформ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76360" y="181080"/>
            <a:ext cx="9036000" cy="1295280"/>
            <a:chOff x="576360" y="181080"/>
            <a:chExt cx="9036000" cy="1295280"/>
          </a:xfrm>
        </p:grpSpPr>
        <p:sp>
          <p:nvSpPr>
            <p:cNvPr id="193" name=""/>
            <p:cNvSpPr/>
            <p:nvPr/>
          </p:nvSpPr>
          <p:spPr>
            <a:xfrm>
              <a:off x="1042920" y="111924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2920" y="119052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42920" y="126216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576360" y="18108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3240000" y="32544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41240" y="1476360"/>
            <a:ext cx="86076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c1900"/>
                </a:solidFill>
                <a:latin typeface="Times New Roman"/>
              </a:rPr>
              <a:t>Существующие модели библиотечно-информационных цен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1. Библиотека-центр информационной грамо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2. Библиотека- информационный ресурсны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3. Библиотека — медиа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4. Библиотека — информационный медиа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5. Библиотека — инфополюс, научно-образовательный информационны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6. Библиотека — информационный интеллектуальны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68360" y="181080"/>
            <a:ext cx="9036000" cy="1295280"/>
            <a:chOff x="468360" y="181080"/>
            <a:chExt cx="9036000" cy="1295280"/>
          </a:xfrm>
        </p:grpSpPr>
        <p:sp>
          <p:nvSpPr>
            <p:cNvPr id="200" name=""/>
            <p:cNvSpPr/>
            <p:nvPr/>
          </p:nvSpPr>
          <p:spPr>
            <a:xfrm>
              <a:off x="934920" y="111924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34920" y="119052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4920" y="126216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468360" y="18108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 txBox="1"/>
            <p:nvPr/>
          </p:nvSpPr>
          <p:spPr>
            <a:xfrm>
              <a:off x="3132000" y="32544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92000" y="1547640"/>
            <a:ext cx="86076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4c19"/>
                </a:solidFill>
                <a:latin typeface="Times New Roman"/>
              </a:rPr>
              <a:t>Координация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4c1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04c19"/>
                </a:solidFill>
                <a:latin typeface="Times New Roman"/>
              </a:rPr>
              <a:t>БИЦ ДонН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Центральная научно-техническая библиотека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 Минуглеп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2. Областная научная библиотека им. Н.К.Круп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3.НИЧ Дон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4.</a:t>
            </a:r>
            <a:r>
              <a:rPr b="1" lang="uk-UA" sz="2800" spc="-1" strike="noStrike">
                <a:solidFill>
                  <a:srgbClr val="008080"/>
                </a:solidFill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тдел интеллектуальной собственности и патентно-лицензионной работы </a:t>
            </a:r>
            <a:r>
              <a:rPr b="1" lang="uk-UA" sz="2800" spc="-1" strike="noStrike">
                <a:solidFill>
                  <a:srgbClr val="00808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ри НИЧ Дон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41440" y="252360"/>
            <a:ext cx="9036000" cy="1295280"/>
            <a:chOff x="541440" y="252360"/>
            <a:chExt cx="9036000" cy="1295280"/>
          </a:xfrm>
        </p:grpSpPr>
        <p:sp>
          <p:nvSpPr>
            <p:cNvPr id="207" name=""/>
            <p:cNvSpPr/>
            <p:nvPr/>
          </p:nvSpPr>
          <p:spPr>
            <a:xfrm>
              <a:off x="1008000" y="119052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8000" y="126180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08000" y="13334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541440" y="25236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 txBox="1"/>
            <p:nvPr/>
          </p:nvSpPr>
          <p:spPr>
            <a:xfrm>
              <a:off x="3205080" y="39672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19280" y="1116000"/>
            <a:ext cx="86072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c1900"/>
                </a:solidFill>
                <a:latin typeface="Times New Roman"/>
              </a:rPr>
              <a:t>Процесс создания единого информационно-ресурсного центра требует решения следующих вопрос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c8526"/>
                </a:solidFill>
                <a:latin typeface="Times New Roman"/>
              </a:rPr>
              <a:t>1.Организацио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c8526"/>
                </a:solidFill>
                <a:latin typeface="Times New Roman"/>
              </a:rPr>
              <a:t>2.Технологиче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c8526"/>
                </a:solidFill>
                <a:latin typeface="Times New Roman"/>
              </a:rPr>
              <a:t>3.Ресурс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c8526"/>
                </a:solidFill>
                <a:latin typeface="Times New Roman"/>
              </a:rPr>
              <a:t>4.Финансово-эконом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c8526"/>
                </a:solidFill>
                <a:latin typeface="Times New Roman"/>
              </a:rPr>
              <a:t>5.Кадр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96720" y="252360"/>
            <a:ext cx="9036000" cy="1295280"/>
            <a:chOff x="396720" y="252360"/>
            <a:chExt cx="9036000" cy="1295280"/>
          </a:xfrm>
        </p:grpSpPr>
        <p:sp>
          <p:nvSpPr>
            <p:cNvPr id="214" name=""/>
            <p:cNvSpPr/>
            <p:nvPr/>
          </p:nvSpPr>
          <p:spPr>
            <a:xfrm>
              <a:off x="863280" y="1190520"/>
              <a:ext cx="856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3280" y="126180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3280" y="13334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396720" y="252360"/>
              <a:ext cx="201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 txBox="1"/>
            <p:nvPr/>
          </p:nvSpPr>
          <p:spPr>
            <a:xfrm>
              <a:off x="3060360" y="396720"/>
              <a:ext cx="5040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учно-техническая библиотек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онецкого национального технического университета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06:43Z</dcterms:created>
  <dc:creator/>
  <dc:description/>
  <dc:language>en-US</dc:language>
  <cp:lastModifiedBy>Библиотека</cp:lastModifiedBy>
  <dcterms:modified xsi:type="dcterms:W3CDTF">2010-10-20T06:37:14Z</dcterms:modified>
  <cp:revision>23</cp:revision>
  <dc:subject/>
  <dc:title>       </dc:title>
</cp:coreProperties>
</file>