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1E4-B095-4E98-8F0B-CE8ACF7B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121-AB07-4A10-8942-81DEE43E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AF3-EB35-45C6-81E4-961AD134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F60-DE62-44C3-ADE4-815D5054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5FF-A5B9-4B2B-9163-962BAD88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E6A-D1C9-4E8E-8649-F285FCCD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3D1-3C04-412E-AD8C-2B6A48B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447-E3B0-4E9C-9D07-76A6D4CF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0E2-20EC-4D95-BDAC-703FDCBE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A61-6DDE-481D-A329-38F5043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6F0-D5EB-4A93-8284-9D32521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16B-A740-41A4-BB85-0DEE1D7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B55F7-6887-4DE8-BC82-61D063451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42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04920" y="6172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й научный сотрудник НТБ ДонНТ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ченко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248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dddddd"/>
                </a:solidFill>
                <a:latin typeface="Times New Roman"/>
              </a:rPr>
              <a:t>Мультисервисная сеть для библиотечно-информационного центра ДонН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50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1447920"/>
            <a:ext cx="91440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Times New Roman"/>
              </a:rPr>
              <a:t>Используемые технолог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Etherne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gabit Etherne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-F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57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2743200"/>
            <a:ext cx="7391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ная и пожарная сигнал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еонаблю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кально-вычислительная се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вера и хранилище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видеоконференц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8800"/>
            <a:ext cx="899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90512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6002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dddd"/>
                </a:solidFill>
                <a:latin typeface="Times New Roman"/>
              </a:rPr>
              <a:t>Инженерные сети под управлением единого 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IP</a:t>
            </a: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dddddd"/>
                </a:solidFill>
                <a:latin typeface="Times New Roman"/>
              </a:rPr>
              <a:t>протоко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67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522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Иерархическая структура се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05320" y="2514600"/>
          <a:ext cx="14475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14600"/>
                    <a:ext cx="14475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05320" y="3886200"/>
          <a:ext cx="15238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3886200"/>
                    <a:ext cx="15238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05320" y="5486400"/>
          <a:ext cx="1571400" cy="876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5486400"/>
                    <a:ext cx="15714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191120" y="4724280"/>
            <a:ext cx="75960" cy="762120"/>
          </a:xfrm>
          <a:prstGeom prst="upDownArrow">
            <a:avLst>
              <a:gd name="adj1" fmla="val 50000"/>
              <a:gd name="adj2" fmla="val 1997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276720"/>
            <a:ext cx="76320" cy="609480"/>
          </a:xfrm>
          <a:prstGeom prst="upDownArrow">
            <a:avLst>
              <a:gd name="adj1" fmla="val 50000"/>
              <a:gd name="adj2" fmla="val 1589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9810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9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000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038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ас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до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88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95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47920" y="18288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dddddd"/>
                </a:solidFill>
                <a:latin typeface="Times New Roman"/>
              </a:rPr>
              <a:t>Комплекс серверов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8954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вер тонких кли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вер АБИС (сервер системы автоматизации библиотек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мен контролл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в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вер дистанцион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вер системы видео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08000" y="115920"/>
            <a:ext cx="9036000" cy="1295280"/>
            <a:chOff x="108000" y="115920"/>
            <a:chExt cx="9036000" cy="1295280"/>
          </a:xfrm>
        </p:grpSpPr>
        <p:sp>
          <p:nvSpPr>
            <p:cNvPr id="103" name=""/>
            <p:cNvSpPr/>
            <p:nvPr/>
          </p:nvSpPr>
          <p:spPr>
            <a:xfrm>
              <a:off x="574560" y="1054080"/>
              <a:ext cx="8569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560" y="1125360"/>
              <a:ext cx="856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60" y="1197000"/>
              <a:ext cx="856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277164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2280" y="2590920"/>
            <a:ext cx="8686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ие качества образовательных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 к новым информационным систе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ие уровня научного потенциала универс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600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Times New Roman"/>
              </a:rPr>
              <a:t>Результаты внедр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-352440"/>
            <a:ext cx="8640720" cy="69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E-mail:nsot@library.dgtu.donetsk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http://library.donntu.edu.u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b</cp:lastModifiedBy>
  <dcterms:modified xsi:type="dcterms:W3CDTF">2010-10-22T07:21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