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6FA-33AA-4F2A-93B2-626A24F1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3E6-571D-4D35-AC3F-B652131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031-C1E3-46F1-B930-CF5EFF77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D3B-4781-417A-84C7-87FE686E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431-04AE-469C-BF23-4DBC87DC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1D6-FCD1-45A1-A0AE-D0D39F1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17C0-0793-48D2-B6C6-E5D50C3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B8C6-7D0C-49EA-B3A3-605D42EE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619-1719-4856-A242-ADBB8879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5DA9-7693-400B-A0BE-210270C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F68F-6E29-470B-AD90-16739DF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EB6-2A93-4143-90A7-93A8D96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E34-C34B-4CE4-BD46-9614A31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D2A-83AF-41F2-975E-84FB9F7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D7E-830B-40C3-9975-E5D21AA8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1BD0-2779-4251-8AA6-02D650D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BE0-F623-428C-832C-812F019D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367-F040-4A11-B310-F3BB4F1D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482-0D90-4B94-B588-F34C12E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A34-2199-47C3-B76E-3CCA392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C41-D07C-4D40-889A-DCE4B39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EE7-AE56-4E11-85E1-53225B9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012-9C43-432D-AD8C-673AB23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D49-50EA-4618-B8AA-43B06D8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8752-BED4-48FC-A394-C02DB5FC6A4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F543-F889-40A7-AE8F-EBB586C55C0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ura@roerich.com" TargetMode="External"/><Relationship Id="rId2" Type="http://schemas.openxmlformats.org/officeDocument/2006/relationships/hyperlink" Target="http://www.roerich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жур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1"/>
              </a:rPr>
              <a:t>dzhura@roeri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062) 337-32-6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2"/>
              </a:rPr>
              <a:t>www.roerich.com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donntu_gerb1"/>
          <p:cNvPicPr/>
          <p:nvPr/>
        </p:nvPicPr>
        <p:blipFill>
          <a:blip r:embed="rId3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" descr="Фото М. В. Нестеров. Троица Ветхозаветная"/>
          <p:cNvPicPr/>
          <p:nvPr/>
        </p:nvPicPr>
        <p:blipFill>
          <a:blip r:embed="rId1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Admin</cp:lastModifiedBy>
  <dcterms:modified xsi:type="dcterms:W3CDTF">2011-03-30T14:23:07Z</dcterms:modified>
  <cp:revision>43</cp:revision>
  <dc:subject/>
  <dc:title>COIN Project: lessons learned during the first year of the project</dc:title>
</cp:coreProperties>
</file>