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0A7-23F4-4A6A-9AE1-BF6B505E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1C7-0054-4B82-9D76-A299F609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13A-2EA4-4657-9E00-DA8088E0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B5A-80A8-475A-BFBE-CC7CFB81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376-0AF4-49B6-8ACB-5DBDFD79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8B9-A63E-47AC-AC14-DA2A3BE5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2A1-DD3B-4FDB-A606-A7EDB2AA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CA1-107B-4708-AC91-F4872D0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AB9-838F-4523-A604-DC49F7ED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93A-667F-4959-9BAE-536B62A4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62B-BA91-4121-8BA2-4E695F43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948-A84B-42BF-9821-B4A850DD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6265-A4D4-4AD9-81AD-5BC85DC1D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cw.mit.edu/index.ht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encourseworld.de/pages/landingpage.js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ища інженерна освіта в ДонНТУ: від традицій до інноваці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О</a:t>
            </a:r>
            <a:r>
              <a:rPr b="0" lang="uk-UA" sz="3000" spc="-1" strike="noStrike">
                <a:solidFill>
                  <a:srgbClr val="898989"/>
                </a:solidFill>
                <a:latin typeface="Calibri"/>
              </a:rPr>
              <a:t>.А. Мінаєв, Є.О. Башков, Н.М. Дацун</a:t>
            </a:r>
            <a:br>
              <a:rPr sz="3000"/>
            </a:br>
            <a:r>
              <a:rPr b="0" lang="uk-UA" sz="3000" spc="-1" strike="noStrike">
                <a:solidFill>
                  <a:srgbClr val="898989"/>
                </a:solidFill>
                <a:latin typeface="Calibri"/>
              </a:rPr>
              <a:t>Донецький національний технічний університ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озрив між глобальною кризою інженерної освіти і революцією в сучасних технологі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часна традиційна система інженерної освіти склалася в період індустріального суспіль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на не змінилася, хоча світ вже живе в інформаційному суспільств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есвітня ініціатив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DI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ект CDIO 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http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://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ww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cdio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org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ямований на усунення протиріч між теорією і практикою в інженерній осві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сновник Массачусетський технологічний інстит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ники - технічні та технологічні університети різних країн Америки, Азії та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тан національної інженерної осві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тиріччя між вартістю навчання та якістю освітніх послу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ішити це протиріччя можливо за доромогою використання нових освітніх технологій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іти) та і інтенсивних інноваційних методів навчанн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Національна стратегія розвитку освіти в Україні на період до 2021 рок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77336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вдання ДонНТУ реформування системи підготовки фахівців з інженерних спеціальнос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модернізація всіх компонент освітнього процесу в університеті на засадах компетентнісного підхо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доступна і безперервна освіта протягом усього житт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ідвищення якості освіти на інноваційній основ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інформатизація освіти і вдосконалення її інформаційно-ресурсного забезпече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підвищення соціального статусу науково-педагогічних працівник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створення сучасної матеріально-технічної бази університ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тратегія розвитку інформаційного суспільства в Украї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йважливіші завдання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-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світи для вищої шк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створення інформаційної системи підтримки освітнього процесу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створення системи дистанційного навчанн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створення відкритої мережі освітніх ресурсі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розробка методологічного забезпечення в частині використання комп'ютерних мультимедійних технологій у процесі викладання дисциплі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Можливі напрямки створення e-освіти в ДонН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«Змішана» (blended education) аб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бінова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форма навчання (для студентів очної форми навчанн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станційне навчанн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ля студентів заочної форми навчанн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ідкриті освітні ресурс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ля всіх бажаючи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едагогічний експеримент в ДонНТУ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в 2013-14 н.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20500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 використання технологій е-освіти в змішаній моделі навч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ричини проведення експеримен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20464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Експансія освітніх послуг відкритої освіти на ринку вищої інженерної осві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Актуалізація нормативної бази Украї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ипереджувальне використання інноваційних ІТ-технологій студентами і відставання освітніх технолог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Цілі проведення експеримен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9992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формування компетенцій викладачів ДонНТУ для комплексного використання ІТ-технологій в навчальному процесі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розміщення дидактичних матеріалів дисциплін в електронному вигляді для відкритого або корпоративного доступу студента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підготовка онлайн-інструментів для контролю самостійної роботи студентів та організації інтерактивного їх взаємодії з викладачами і в період проведення експерименту;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Фази підготовки та проведення педагогічного експеримент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988640"/>
            <a:ext cx="8435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ідготовч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иконавч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ідсум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 останні 20 років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%-ве скорочення кількості студентів, що навчаються із технічних спеціальностей в 10 найбільших інститутах сві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ржавні асигнування на наукові дослідження в розвинутих країнах скоротилися майже на трет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Етапи підготовчої фази педагогічного експеримент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рганізаційно-методичний (з 2008 р. по теперішній час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аналітико-підготовчий (травень-серпень 2013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вчально-методичний (до жовтня 2013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системотехнічний (жовтень-листопад 2013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організаційний (вересень-листопад 201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1. Організаційно-методичний е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структуризація системи підвищення кваліфікації викладачів університету з використання ІТ-технологі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 2010 р. викладачам пропонується комплексна трирівнева система підвищення кваліфікації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сновний ріве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базовий ріве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оглиблений рів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2. Аналітико-підготовчий е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кетування інститутів і факультетів ДонНТУ з метою визначення ландшафту думок про необхідність і готовність використання технологій онлайн-навч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3. Навчально-методичний е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2276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ідготовка в цифровому (електронному) вигляді навчально-методичного комплексу дисциплін для онлайн-навчан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електронний кейс з відповідної дисциплі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4. Системотехнічний е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розміщенні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лектронних кейсів дисциплін для онлайн-навчання задіяні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рвіси для доставки дидактичних матеріалів студента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дистанційні курси дисциплін, розміщені в СДН ДонНТУ на базі платформи MOODL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електронні ресурси науково-технічної бібліотеки ДонНТУ: електронний каталог і електронний архі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інформаційні портали ДонНТ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сайти кафедр та особисті веб-сторінки викладачі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5. популярні соціальні мережі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6. хмарні сервіс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4. Системотехнічний е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контролю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ійної роботи в період експерименту були підготовлені онлайн-інструмен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вдання, Опитування та Форуми дистанційних курсів СД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тести для самоконтролю дистанційних курсів СД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ервіси популярних соціальних мереж і блогі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служби хмарних сервіс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4. Системотехнічний е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контролю самостійної робо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еріод експерименту були підготовлені онлайн-інструмен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вдання, Опитування та Форуми дистанційних курсів СД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тести для самоконтролю дистанційних курсів СД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ервіси популярних соціальних мереж і блогі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служби хмарних сервіс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4. Системотехнічний е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34136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контролю самостійної робот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іод експерименту були підготовлені онлайн-інструмент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Форуми, Чати, система обміну повідомленнями і нотатками дистанційних курсі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форуми сайтів кафедр і особистих веб-сторінок викладачі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поштові скриньки електронної пошти студентських груп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сервіси популярних соціальних мереж і блогі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5. служби хмарних сервісі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Виконавча фаза експеримен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34136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почата 11 листопада 2013 р. і проводиться на всіх факультетах та інститутах на денній форм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уть участь викладачі, які самостійно висловили свою згоду на участь у ньо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часті в експерименті викладачі обов'язково отримали згоду відповідних студентських гру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Виконавча фаза експеримен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34136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чікувані результат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інтенсифікація самостійної роботи студенті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використання ІТ-технологій для доставки навчальних матеріалів студентам, для організації індивідуальної та спільної робо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формування у студентів з використанням ІТ-технологій професійно-орієнтованих і комунікативних компетенці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актуалізація професійних і комунікативних компетенцій викладачі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обальні тренди в освітній сфері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необхідність створення умов для індивідуальних освітніх траєкторій з урахуванням можливостей кожного з тих, хто навчаєть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різке прискорення оновлюваності знань і технологій, яке загострює проблему освіти працюючи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інтелектуальний капітал компаній стає джерелом їх конкурентоспроможності, що вимагає від працюючого постійної актуалізації навичок і компетенці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Виснов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34136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3589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У ДонНТУ виконана певна підготовча робота з впровадження інноваційних освітніх технологій в навчальний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80" indent="3589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Підготовка і проведення експерименту з впровадження змішаної форми навчання зажадала серйозної роботи всіх підрозділів університету та викладачі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80" indent="3589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Результати проведення педагогічного експерименту з використання комбінованої форми навчання дозволять сформувати пропозиції щодо вдосконалення навчального процесу з використанням цієї форми навчанн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34136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35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" indent="35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" indent="3589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якуємо за ува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України від розвитку освіти залеж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рочення подвійного технологічного розриву, який визначається поєднанням індустріального та інформаційного відставання країн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пективи її соціально -економічного майбутнь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ідні університети світу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виток "відкритої освіти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нлайн-курсах вчаться сотні тисяч людей по всьому сві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1. Проект EDX [1] (Гарвард і Массачусетський технологічний інститут) </a:t>
            </a: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https://www.edx.org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урси  MIT, Harvard, Berkeley, Georgetown, Rice за спеціальностями: комп'ютерні науки, біологія, хімія, математика, історія, право, література, економіка і багатьом інши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к спеціальних інженерних дисциплін на цьому сайті немає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2. MIT OpenCourseWare (Массачусетський технологічний інститут )</a:t>
            </a:r>
            <a:br>
              <a:rPr sz="3600"/>
            </a:b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cw.mit.edu/index.ht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вільному доступі публікуються матеріали всіх його курсів навчальні плани, конспекти лекцій, домашні завдання, екзаменаційні питання і відеоархів лекці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вищої інженерної освіти представляють інтерес розділи з електротехніки та комп'ютерних наук, інженерних систем, машинобудуванню та економіці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3. Stanford | Online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(Стенфордський університет ) 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http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://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online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stanford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du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/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cour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и по деяких інженерним дисциплінам інженерним та з комп'ютерних на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4. OpenCourseWorld (університет Саарбрюкен, Німеччина)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_x000b_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http</a:t>
            </a:r>
            <a:r>
              <a:rPr b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://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www</a:t>
            </a:r>
            <a:r>
              <a:rPr b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.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opencourseworld</a:t>
            </a:r>
            <a:r>
              <a:rPr b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.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de</a:t>
            </a:r>
            <a:r>
              <a:rPr b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/</a:t>
            </a:r>
            <a:br>
              <a:rPr sz="3600"/>
            </a:br>
            <a:r>
              <a:rPr b="1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pages</a:t>
            </a:r>
            <a:r>
              <a:rPr b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/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landingpage</a:t>
            </a:r>
            <a:r>
              <a:rPr b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.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Calibri"/>
              </a:rPr>
              <a:t>js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ідкриті онлайн-курси німецькою мовою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MOOC (Massive Open Online Course) з прив'язкою до календарного графіку виконання робіт на відповідному курсі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Calibri"/>
              </a:rPr>
              <a:t>5. Власники iPhone або iPa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можуть вчитися безкоштовно завдяки сервісу iTun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2:12:05Z</dcterms:created>
  <dc:creator>prepod</dc:creator>
  <dc:description/>
  <dc:language>en-US</dc:language>
  <cp:lastModifiedBy>DNA7 X64</cp:lastModifiedBy>
  <dcterms:modified xsi:type="dcterms:W3CDTF">2014-05-27T08:07:27Z</dcterms:modified>
  <cp:revision>69</cp:revision>
  <dc:subject/>
  <dc:title>Вища інженерна освіта в ДонНТУ: від традицій до інновацій</dc:title>
</cp:coreProperties>
</file>