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73D-0B75-4850-9395-AFA13A19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B8A-18E7-4685-A56C-C463BC35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A26-2007-48B1-AC29-7F402AAA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6A8-2C17-4470-84C7-1506D959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5F4A-79BD-4170-AA41-869C53D9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1114-FD0E-4AFD-BC26-30B65307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B2BC-02E1-44C6-8FAD-E2A9BEBD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1BE7-BB06-434E-AAA9-82C0461D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39F0-A537-44D8-96A6-6AAD61E1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88EE-935B-45F4-A34A-3743B55B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2830-EFF9-4123-A749-6B7BE860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05F-C27A-4F65-94CD-182A9271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81D4-B647-4A91-AA27-F5045452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5D1D-B3A3-4B29-8335-0ACCDD7C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B0F3-72D1-4A56-B6BE-88255F50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5E6-1905-4D58-9CDD-646BC6F7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9EFC-F61C-4BDC-BB80-DB96D76B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CD2-D205-4624-9B1E-F89AE514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1CF-57B9-4FA6-9CCA-782E1AD3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127-0FD1-4013-B1EF-52542728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E09-1AE7-4764-9831-53B1F23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2FA-77D6-43D8-9693-B1758038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EB3-D296-47E9-B67B-4F10D6FD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CF5-2F01-4F44-94BD-8888ED8E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38E7-86AD-4499-8881-BCD4D2969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EF06-7260-4E64-9550-73F5786C5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.volkov@mail.ru" TargetMode="External"/><Relationship Id="rId3" Type="http://schemas.openxmlformats.org/officeDocument/2006/relationships/hyperlink" Target="mailto:a.volkov@mail.ru" TargetMode="External"/><Relationship Id="rId4" Type="http://schemas.openxmlformats.org/officeDocument/2006/relationships/hyperlink" Target="mailto:a.volkov@mail.ru" TargetMode="External"/><Relationship Id="rId5" Type="http://schemas.openxmlformats.org/officeDocument/2006/relationships/hyperlink" Target="mailto:a.volkov@mail.ru" TargetMode="External"/><Relationship Id="rId6" Type="http://schemas.openxmlformats.org/officeDocument/2006/relationships/hyperlink" Target="mailto:a.volkov@mail.ru" TargetMode="External"/><Relationship Id="rId7" Type="http://schemas.openxmlformats.org/officeDocument/2006/relationships/hyperlink" Target="mailto:a.volkov@mail.ru" TargetMode="External"/><Relationship Id="rId8" Type="http://schemas.openxmlformats.org/officeDocument/2006/relationships/hyperlink" Target="mailto:a.volkov@mail.ru" TargetMode="External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ffff"/>
                </a:solidFill>
                <a:latin typeface="Tahoma"/>
              </a:rPr>
              <a:t>Донецький національний технічний університет</a:t>
            </a:r>
            <a:br>
              <a:rPr sz="2000"/>
            </a:br>
            <a:r>
              <a:rPr b="1" lang="uk-UA" sz="2000" spc="-1" strike="noStrike">
                <a:solidFill>
                  <a:srgbClr val="e5ffff"/>
                </a:solidFill>
                <a:latin typeface="Tahoma"/>
              </a:rPr>
              <a:t>Кафедра фізики</a:t>
            </a:r>
            <a:br>
              <a:rPr sz="2000"/>
            </a:br>
            <a:r>
              <a:rPr b="1" lang="uk-UA" sz="2000" spc="-1" strike="noStrike">
                <a:solidFill>
                  <a:srgbClr val="e5ffff"/>
                </a:solidFill>
                <a:latin typeface="Tahoma"/>
              </a:rPr>
              <a:t>Кафедра загальної хімії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5280" y="2349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БАЗОВА ПІДГОТОВКА СТУДЕНТІ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ДО ВИВЧЕННЯ КУРСУ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«КОМПОНЕНТНА БАЗА РЕЗ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О.Ф. Волков, О.І. Вол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E-mail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a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volkov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@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mail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Місце дисципліни в учбовому процесі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Курс фізики забезпечує вивчення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електротехніки і основ електронік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компонентної бази радіоелектронних засобів (РЕЗ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хнічної термодинамі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геології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матеріалознав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основ екології і безпеки життєдіяльності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підготовчих і флотаційних процесів збагаченн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основ гірського виробниц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Курс хімії забезпечує вивчення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аналітичної, фізичної і органічної хімії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поверхневих явищ і дисперсних систе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основ екології і безпеки життєдіяльності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фізики і хімії твердого тіл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електротехніки і основ електроні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компонентної бази РЕЗ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хнічної термодинамі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хімічного і фізичного матеріалознав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8567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5ffff"/>
                </a:solidFill>
                <a:latin typeface="Tahoma"/>
              </a:rPr>
              <a:t>Для формування системного знання і розробки інтегрованих курсів необхідно активізувати наступні типи міждисциплінарних зв'язків</a:t>
            </a: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чбово-міждисциплінарні прямі зв'яз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- дослідницько-міждисциплінарні зв'яз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- ментально-опосередковані зв'яз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- опосередковано-прикладні зв'яз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Для дисциплін, що входять в один учбовий блок (наприклад, фізика і хімія), характерні учбово-міждисциплінарні прямі зв'язки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3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5ffff"/>
                </a:solidFill>
                <a:latin typeface="Tahoma"/>
              </a:rPr>
              <a:t>Опис слабкострумового реле електромагнітного типу:</a:t>
            </a:r>
            <a:br>
              <a:rPr sz="2400"/>
            </a:br>
            <a:r>
              <a:rPr b="1" lang="uk-UA" sz="2400" spc="-1" strike="noStrike">
                <a:solidFill>
                  <a:srgbClr val="e5ffff"/>
                </a:solidFill>
                <a:latin typeface="Tahoma"/>
              </a:rPr>
              <a:t> енергія керуючого електричного струму поступає в обмотку реле і перетворюється в енергію магнітного поля, яке притягує феромагнітний якір, механічно пов'язаний з контактами реле. Повернення в початковий стан відбувається під дією сили пружини. Завдяки простій конструкції реле такого типу можуть бути виготовлені на різну комутовану напругу і керуючі струми. До недоліків слід віднести невисоку чутливість, інерційність рухомих частин і їх знос, виникнення окисних плівок на контактах, а також можливість виникнення брязкоту контактів унаслідок їх зіткнення при комутації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5ffff"/>
                </a:solidFill>
                <a:latin typeface="Tahoma"/>
              </a:rPr>
              <a:t>Для повного розуміння принципу роботи реле електромагнітного типу необхідно знати такі теми з основних розділів</a:t>
            </a: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Фізи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Механіка. Явище інерції. Сили пружності. Закон Гу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Постійний і змінний електричний струм. Закон Ома для повного ко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Електромагнетизм. Явище електромагнітній індукції. Закон Фарадея. Правило Ленца. Вихрові струми Фук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Магнітні властивості речовини. Класифікація магнетиків. Використання магнетиків в сучасній техніц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Хімії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Окислювально-відновні реакції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Хімічні джерела струм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Властивості металів. Корозія металів, захист від корозії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Класифікація електротехнічних матеріалів: провідники, напівпровідники, діелектр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Електричні властивості речовин з погляду зонної теорії твердого ті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ПЕРЕЛІК ПОСИЛАН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едагогика и психология высшей школы: Учебное пособие. 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Ростов н/Дону, 2002. 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544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. Попков В.А., Коржуев А.В. Дидактика высшей школы. 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М.: Издательский центр «Академия», 2004. 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192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. Антипов Б.Л., Сорокин В.С., Терехов В.А. Материалы электронной техники: Задачи и вопросы. Учеб. пособие для вузов по специальностям электронной техники / Под ред. В.А.Терехова. 2-е изд. 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Санкт-Петербург: Издательство «Лань», 2001. 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208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. Покровский Ф.Н. Материала и компоненты радиоэлектронных средств: Учеб. пособие для вузов. 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М.: Горячая линия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елеком, 2005. 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350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5. Савельев И.В. Курс общей физики, в 3-х томах: Учеб. пособие. 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М.: Наука, 1982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Tahoma"/>
              </a:rPr>
              <a:t>6. Волков О.Ф., Лумпієва Т.П. Курс фізики. В 2-х т.: Навчальний посібник для студентів інженерно-технічних спеціальностей вищіх навчальних закладів. – Донецьк: ДонНТУ, 2008. – Т.1 - 232 с., Т.2 – 222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Tahoma"/>
              </a:rPr>
              <a:t>7. Конспект лекций по курсу “Химия и электротехнические материалы” / Составитель Волкова Е.И. -  Донецк: ГВУЗ “ДонНТУ”, 2007. – 57 с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Tahoma"/>
              </a:rPr>
              <a:t>8. Примеры решения задач и индивидуальные задания по курсу “Химия и электротехнические материалы” / Составитель Волкова Е.И. -  Донецк: ГВУЗ “ДонНТУ”, 2007. – 48 с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. Ахметов Н.С. Общая и неорганичная химия. Учеб. пособие для вузов. 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М.: Высш. школа, 1998. </a:t>
            </a:r>
            <a:r>
              <a:rPr b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743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7:00:36Z</dcterms:created>
  <dc:creator>Anastasiya</dc:creator>
  <dc:description/>
  <dc:language>en-US</dc:language>
  <cp:lastModifiedBy>Anastasiya</cp:lastModifiedBy>
  <dcterms:modified xsi:type="dcterms:W3CDTF">2009-02-02T18:04:57Z</dcterms:modified>
  <cp:revision>5</cp:revision>
  <dc:subject/>
  <dc:title>Слайд 1</dc:title>
</cp:coreProperties>
</file>