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F76B-8948-495D-A72A-23C88A9FBA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F558-4D9F-4A72-90C9-6C8BA56D5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4B82-06FA-4B66-80CC-4EA1A692F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F4D5-07CF-4187-A97C-04F5239C11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603-2436-49C1-A21A-3B9700ED6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D8BE-0213-48EA-BC2C-C0DED5E3F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EF4A-93D0-430B-BBDA-77AFFCBAB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AE11-F93E-4820-B673-55B1CFA4FB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36CA-4EBE-415D-BB4E-7D513FED6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830-4977-47E1-B41C-E6D40497D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A7D9-93FE-4EDA-9C90-5EC3418489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2A5C-3509-4CC7-86F6-7F6A4DD6E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5D60-355E-4719-AB2B-DAA134408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76F0-C443-4442-BB67-B7929F0CAA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5AE4-EC9D-4FEC-9647-21436CF123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C813-A742-4484-9592-C6D4318D65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051A-0F44-4FEE-BC31-39325376F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A7D3-57A9-4FB3-8E3F-4E7C48561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8690-F04C-45A6-B0D4-7AC216D28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FB1-FDB1-4379-B4C9-F819453F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AAA-8CDC-4675-8F61-1414F9A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E4C-92CE-4543-9102-DC87B8C8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4C5-C880-45D7-B865-39F49123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1F6A-2F95-4F05-A7BC-4AB82884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75F3-7F71-4C06-81BE-40B95B77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025C-8A96-4699-B3F4-E2BBC609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5BA3-8EDB-4109-AC0F-4B3C59AE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F7E7-076F-4951-AC8F-88496E75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C4D2-ACAC-41A4-B2F9-0950A51C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30C4-9487-424D-9943-0E4C70C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741-289A-4A22-8CDB-41583351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6DE3-AC29-4724-AEF1-FC45D122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42A4-D271-4D83-A9A6-B9806FC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3482-32E5-4672-B369-2288F3FF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E2C6-C026-4CD7-B65C-A46DD757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6F23-805E-4196-9D96-7C70F6D3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578-B670-400A-BE46-63D60BF1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392-9521-4982-BCDF-D23F0CB2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0A7-0E25-44F2-B36F-56EEB011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303-ECDC-4F54-B716-FB72D724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493-0CBF-4658-BD51-8C694990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1D0-C2F4-4928-AE1A-70EADC8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C95-624E-4302-A251-2A4BBE6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9FCA-1DE0-41EF-8C86-2C4CD8511F2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BB39-2A5B-4CA6-82C9-180A5D5911F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zhura@roerich.com" TargetMode="External"/><Relationship Id="rId2" Type="http://schemas.openxmlformats.org/officeDocument/2006/relationships/hyperlink" Target="http://www.roerich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РЕШАЮЩАЯ РОЛЬ КУЛЬТУРЫ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 СТАНОВЛЕНИИ И РАЗВИТИИ НООСФЕРЫ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Джура С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1"/>
              </a:rPr>
              <a:t>dzhura@roeri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062) 337-32-6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2"/>
              </a:rPr>
              <a:t>www.roerich.com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3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4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Образование или образовательные услуги? Целевая функция науки.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кольку цель любого научного процесса может быть описана в терминах теории оптимизации (поскольку оптимальным образом нужно достичь заданной цели), то и научная задача может быть рассмотрена как целевая функция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ЦФ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 общем случае многокритериальная со своими весовыми коэффициентами) в области ограничений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ОГР 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нансовых, временных и прочи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едагогических задачах ВУЗа нужно определить уровень квалификационной характеристики специалиста (знания и умения) — это целевая функция коллектива преподавателей ВУЗа в рамках ограничений (времени, возможностей программы — часов, а также педагогических и психологических характеристик слушателя, способного или не очень способного получать эти знан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Объект 1"/>
              <p:cNvSpPr txBox="1"/>
              <p:nvPr/>
            </p:nvSpPr>
            <p:spPr>
              <a:xfrm>
                <a:off x="2124000" y="3573360"/>
                <a:ext cx="37688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/max: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ЦФ</m:t>
                            </m:r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539640" y="371628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е сумма знаний, а «правильный образ мышления» и нравственное воспитание - вот цель обучения. М.В.Ломо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lomonosov"/>
          <p:cNvPicPr/>
          <p:nvPr/>
        </p:nvPicPr>
        <p:blipFill>
          <a:blip r:embed="rId1"/>
          <a:stretch/>
        </p:blipFill>
        <p:spPr>
          <a:xfrm>
            <a:off x="900000" y="1052640"/>
            <a:ext cx="2190960" cy="2352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640903"/>
          <p:cNvPicPr/>
          <p:nvPr/>
        </p:nvPicPr>
        <p:blipFill>
          <a:blip r:embed="rId2"/>
          <a:stretch/>
        </p:blipFill>
        <p:spPr>
          <a:xfrm>
            <a:off x="4859280" y="1052640"/>
            <a:ext cx="2793960" cy="317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2"/>
          <p:cNvSpPr/>
          <p:nvPr/>
        </p:nvSpPr>
        <p:spPr>
          <a:xfrm>
            <a:off x="4427640" y="4437000"/>
            <a:ext cx="338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«Важно не количество знаний, а качество их. Можно знать очень многое, не зная самого важного» Л.Н.Толс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95280" y="40464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Пророчества великих (не о нашем ли времени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3454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то есть Знание?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16480" y="1773000"/>
            <a:ext cx="3827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«Знание представляет собоупорядоченную совокупность новых характеристик субъекта и мира и их взаимосвязей, представленных в форме конкретного </a:t>
            </a: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метатекст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. В знании осуществляется перевод разрозненных представлений в систематизированную общезначимую форму, удержание того, что может быть сохранено, передано, развито. Проблема знания, структуры, возникновения и специфики его восприятия и понимания (когнитивность) и порождения нового знания (креативность) принадлежит к числу философско-методологических, естественнонаучных и гуманистическо-прикладных – </a:t>
            </a:r>
            <a:r>
              <a:rPr b="0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едва ли не самых сложных проблем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wisdom_chem"/>
          <p:cNvPicPr/>
          <p:nvPr/>
        </p:nvPicPr>
        <p:blipFill>
          <a:blip r:embed="rId1"/>
          <a:stretch/>
        </p:blipFill>
        <p:spPr>
          <a:xfrm>
            <a:off x="324000" y="1844640"/>
            <a:ext cx="532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Решающая роль Культуры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И. Рерих в письме от 5 cентября 1935 г.: «…Цивилизация вытеснила понятие Культуры, и многие не понимают, что можно быть цивилизованным дикарём. Упускается из виду, что наслоения Культуры накапливаются веками, но цивилизация может быть создана в одно десятилетие» /18/. Интересно, что такая точка зрения полностью совпадает с выводами классических философов, которых уж никак нельзя отнести к эзотер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се Ортега-и-Гассет: «Очевидно, сложившаяся ситуация порождает жестокость, за роковые последствия которой сейчас расплачивается Европа. Причиной катастрофичности современной европейской ситуации является то, что английский врач, французский врач, немецкий врач бескультурны, у них нет жизненной системы представлений о мире и человеке, соответствующей времени. Этот средний человек — новый варвар, отставший от своей эпохи, архаичный и примитивный по сравнению с ужасающим настоящим и его проблемами. Этот новый варвар, в принципе, профессионал, знающий гораздо больше, чем когда-либо прежде, но он — инженер, врач, адвокат, учёный — также и гораздо более бескультурен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е будем же дикарями нау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М. Достоевский: «В особенности этим отличалась полунаука, самый страшный бич человечества, хуже мора, голода и войны, неизвестный до нынешнего столетия. Полунаука — это деспот, каких ещё не приходило до сих пор никогда. Деспот, имеющий своих жрецов и рабов, деспот, пред которым всё преклонилось с любовью и с суеверием, до сих пор немыслимым, пред которым трепещет даже сама наука и постыдно потакает ему» /20/. Для педагогики крайне важен тезис Сократа: «Есть только одно благо — знание и одно только зло — невежество». Стивен Хокинг, ныне работающий на кафедре Кембридского университета, той самой, что в своё время возглавлял сам И. Ньютон, развивает мысль Ф.М. Достоевского: «Главный враг знания не невежество, а иллюзия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ега-и-Гассет: «Не будем же дикарями науки. Наука — это великое человеческое свершение; но выше неё стоит сама человеческая жизнь, которая делает науку возможной. В таком случае, нарушение элементарных жизненных условий невозможно восполнить»/19/. Сегодня стремления и чаяния многих людей направлены именно туда, в Европу, хотя уже давно отмечено, как в экзотерической так и в эзотерической традициях, что будущего у Европы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2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356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иссия университе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 (Ортега-и-Гассет) должны рассматривать университетское образование как обладающее тремя функци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. Передача куль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. Обучение професс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I. Научное исследование и обучение новых людей нау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гда есть система жизненных идей, которая представляет собой наивысшую высоту времени, система, которая наиболее современна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та система — Культу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годня мы переживаем — вопреки уверенному самодовольству и внешней видимости — период ужасающего бескульту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, чтобы человек науки перестал быть тем, кем он, к сожалению, довольно часто является сейчас: варваром, отлично знающим один предм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делал бы из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факультета» культу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ядро 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сего высшего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Опыт ДонНТУ по реанимации Института культуры.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Институт культуры ДонНТУ является правопреемником Университета культуры, который, в свою очередь, с 1959 года существовал в стенах тогда Донецкого индустриального института. Организатором его выступила Р.И. Ройтблат — энтузиаст и преданный идеалам просветительства человек. В мае 2012 года исполнилось 5 лет работы Института культуры ДонНТУ, который в новом составе работает в области расширения гуманитарных знаний студентов и формирования гармонически развитой личности будущего инженера. По сути это выполнение главной миссии университета — культурной, ибо она даёт вектор развития техники и развития самой циви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культуры ДонНТУ работает по пяти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овые направления нау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едевры мировой живопи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едевры мирового кинематограф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атральное напр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узыка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Практическая реализация идеи</a:t>
            </a: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 (1)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6 лет проведено более 170 заседаний. Особенно хочется поблагодарить Профессорское собрание ДонНТУ, представители которого уже ни раз вели занятия Института культ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ётся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здательская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нститут культуры замечен не только в Европе, но и за океаном. Культурная общественность США Институту культуры ДонНТУ было любезно предложено издать впервые на русском языке книгу У.К. Джаджа "Указания Пути", что и было сделано. Эта книга передана в ряд ведущих библиотек не только Украины, но и России, Великобритании, Голландии, Польши и др. стр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ституте культуры выступили со своими концертами четыре российских барда: доктор искусствоведения Е.А. Минаев (г. Москва), доктор технических наук И.В. Плохова (г. Псков), солист Вятской филармонии К.Н. Юдичев и Александр Звенигородский из Санкт-Петербурга. Все занятия Института культуры проходят бесплатно для посетителей. Девизом Института культуры ДонНТУ являются слова Сократа: «Есть одно только благо — Знание и одно только зло — невежество». На искоренение этого невежества именно в себе и направлена деятельность института. Поэтому он бесплатен для посетителей, ибо то Знание, которое здесь д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ся, нельзя измерить никакими земными мерками. А экзаменом является  сама наша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Практическая реализация идеи</a:t>
            </a: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 (2)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ституте культуры выступали также Сергей Солёный,  Максим Романовский с группой «Эхо Радуги», музыкальный коллектив «Точка тишины» (г.Донецк), братья Золотухины (г.Луганск). В ближайшем будущем ждём в гости группу «Авакара» (г. Соч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музыкальному направлению можно добавить встречи, посвящённые Скрябину, Моцарту, Рахманинову, Шнитке, Баху, Шопену, Прокофьев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ены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мьеры документальных фильм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нятых по заказу Института культуры: «SOS» или «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з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щег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ения», а так же фильм, посвящ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ный учёному ДонНТУ В.В.Паку, открывший серию «Выдающиеся уч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е Украин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этическое направл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ют донецкие поэты  Елена Баранова, Борис Белаш и Владимир Калиничен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еатральное направл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тудия ДонНТУ «Соф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й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ь» и театр-студия «Пятое колес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ыставочно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ставка репродукций картин «Связь врем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: от Леонардо да Винчи до Николая Рериха» и «Человек. Земля. Вселенная» «Путь Красоты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ы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 конкурса школьных сочине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Почему каждая страна должна охранять сокровища Культуры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анализированы проблемы выбора вектора развития человечества. Приведено доказательство решающей роли культуры как интегрального критерия развития. Предложены варианты выхода из мировоззренческого кризиса, который является основой экономического. Приведён опыт реанимации и развития института культуры ДонНТУ и на его примере обоснована решающая роль культуры в становлении но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лько  полноценный синтетичный подход в науке способен выявить признаки эволюционизма в различных природных процессах, а значит, наметить реальный вектор развития самых разнообразных объектов в Космосе и, в частности, на Земле для всех проявлений жизни; причём, на планете — под воздействием внешних, космических, факторов. Это тем более необходимо проследить в связи со всё более убыстряющимся темпом происходящих на Земле изменений, включ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строфические явл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геологические, климатические, а также мощные подвижки в жизни планетарного социума. Мы живём в определённом переходном периоде, не коротком — по человеческим меркам, предсказанном ещё Древней Мудростью (например, на Западе — это переход от эпохи Рыб к эпохе Водолея, на Востоке — от Кали-юги к Сатья-юге, Золотому Веку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татье показано, что максимальную пользу от знания даёт его высшая форма — мудрость. «Мудрость веков заключена в словах Иисуса: «Да будет воля Твоя» /8/. Вектор развития этой воли Всевышней (а по сути эволюции) даёт Культура. Критерием её является истина, а эстетическим выражением — красота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Главная задача человечества не экономическая, а этическая — развитие внутреннего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Если человечество будет упорствовать в своём невежестве в этих вопросах, то его ждёт участь Атлантиды и Лемурии. Сейчас человечеству даны Гностические источники, которые составляют суть и смысл Культуры: Живая Этика, Учение Храма, Теософия. Именно они дают ключи к пониманию культуры как синтеза религии, науки и искусства. Ибо именно так сказано о Гнозисе (эзотерической литературе): «Представляет интерес мнение Учителей о состоянии литературного творчества в человечестве. Они говорят, что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традиционная литература фактически исчерпала себя в лице Толстого и Достоевского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интерес для будущего представляю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оизведения исповедального характера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к человеческие документы с фиксацией разнообразных опытов во Всеединстве Спектра Всей живой Жизни» /24/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гнозисе (эзотерической литературе) дан новый уровень знания, который нужно ассимилировать и применить во всех областях приложения культуры в жизни. Знаковым является предупреждение о возможности гибели культуры, без которой нет будущего у человечества в целом: «В прошлых тысячелетиях люди могли принимать или отвергать даваемые частицы Великого Учения, но ныне, когда в распоряжении людей находятся могучие энергии, неприятие угрож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ибелью культу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Атлантида погибла вследствие злоупотребления Знанием. Катастрофа была частичной. Ныне гибель угрожает всей планете, ибо в орбиту действия вовлечено всё человечество, возросшее в своём числ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опрос о принятии Учения есть вопрос жизни и смерти для всего и для всех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ь за водородной бомбой может последовать другая, могущая вызвать разложение материи, границы и область распространения которого человекоубийцы не в состоянии предусмотреть. Новые формы жизни должны заменить старые и отжившие. Возможность войны должна быть полностью исключена. Новое Небо труда и строительства, и сотрудничества всех народов Земли должно засиять над Зем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. Наша Рука над новыми формами жизни народов, какими бы несовершенными они не казались близорукому сознанию. Страна Новая и Мир Новый, ею возглавляемый, победит. Новые формы общественной и государственной жизни утвердятся на Земле. В них спасение. Жертвы приносимые неизбежны. Когда же эволюция совершалась без жертв и смерти форм, обречённых ею на уничтожение? Шире широкого смотрите на жизнь. Новому должное воздайте. Часто не знают строители всего величия Великого Плана, но знают Владык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6350040" cy="5079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79280" y="5877000"/>
            <a:ext cx="43210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www.roerich.co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валов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го продук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и истинного и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са прогресса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., д.э.н. Кендю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в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«Экономика – произ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водная от мировоз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зре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076640" y="1844640"/>
            <a:ext cx="4408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Стратегический выход через философское осмысление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., д.э.н. Кендюхов А.В. </a:t>
            </a: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«Экономика – производная от мировоззр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Лечить экономику, не леча мировоз-зрение все равно что сбивать температуру, не леча саму боле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 поменять приоритеты и не согласовать путь развития человечества с глобальным эволюционизмом, то результаты легко предсказать, просто продлив график. Таким образом, вектор развития цивилизации направлен на уничтожение этой самой цивилизации. Метазнание подтверждает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Знаковое высказывание П.Ф.Беликова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ешающими моментами эволюции никогда не были и не будут мировая политика или мировая экономика. Ведь целью эволюции не является создание политически правильно мыслящего человека, а человека, способного мыслить космическими категориями. Политика, экономика, все созданные ими общественные формации лишь на более мелких и временных примерах учат человека разбираться в сущем. Было бы нелепо думать, что “справедливость” или “несправедливость” этих недолговечных форм общественной жизни человека являются присущими “Космическому Разуму мерками”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Метазнание: (Агни Йога, Учение Храма, Теософия)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мическая волна может сместить не только отдельного человека и народ или континент, но даже целую расу и целую планету, если будет явлено сопротивление, задерживающее эволюцию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мирает всё, не отвечающее ступени Эволюци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усилия Учителей направлены на решение великих мировых проблем религии, образования, науки и государственного устро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лобализация экономического и политического устройства человечества на пути к Братству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хваленые современные системы образования наносят вред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 вводят молодежь в заблуждение, что тысячи выпускников учебных заведений выходят оттуда неготовыми к жизни и к выполнению долга;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олодые люди позорят специальности, в которых мнят себя профессионалам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или становятся торговцами.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До тех пор пока будет господствовать нынешний идеал цивилизации, основанный лишь на материальных ценностях, человека будут удовлетворять плоды современного образования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этом смысле нам близок подход авторов работы Майкла Кремо и Ричарда Томпсона «Запрещенная история»: «Посвящается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расширяющемуся кругу ученых и филологов, способных рискнуть профессиональным престижем, положением и привилегиями ради столь эфемерной субстанции, как истин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Наука как часть духовной культуры.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ийский и английский философ, логик, социолог и науковед К.Поппер: «Нам следует привыкнуть понимать науку не как «совокупность знаний», а как систему гипотез, т.е. догадок и предвосхищений, которые в принципе не могут быть обоснованы, но которые мы используем до тех пор, пока они выдерживают проверки, и о которых мы никогда не можем с полной уверенностью говорить, что они «истинны», более или менее «достоверны» или даже «вероятны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ка из «кладбища гипотез» (Пуанкаре) превращается в истинную науку только при прохождении всех методологических тестов, а потому имеют право на существование любые знания». От себя добавим — и эзотерические в том числе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бразование как феномен культуры, который не ставит задачу поиска истины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к показывает современное состояние образования, отражаемое в педагогической науке, как в теории, так и на практике, осуществляемой по ее законам, принципам и методам. Оно представляет собой проблемный многогранник, анализ которого позволяет начать с главной проблемы — цели педагогики, из начал идеалов которой, по нашему мнению, сегодня ничего не востребован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по сути, педагогика является ведомой, а ведь её главная функция — поиск истины, и она должна быть ведущей и вести это самое гражданское общество к Истине. Всадник и лошадь поменялись местами, низшее пытается управлять высшим — на лицо мировоззренческий кризис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 сожалению, не познание истины, а выгода, бизнес, социальный заказ выходят на первый план. (Л.М.Гиндили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Сергей Джура</cp:lastModifiedBy>
  <dcterms:modified xsi:type="dcterms:W3CDTF">2013-03-25T11:03:26Z</dcterms:modified>
  <cp:revision>61</cp:revision>
  <dc:subject/>
  <dc:title>COIN Project: lessons learned during the first year of the project</dc:title>
</cp:coreProperties>
</file>