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39F-8269-4802-B2AE-D3C97E8C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AFD-B756-4EC0-8AB8-08CF828C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FCB-1BC1-41D7-A344-0A109439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E5D-B0CE-4257-914B-84A31F01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BA5D-7E25-47EB-8B27-712A20E8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BBCE-3F4E-419E-AD77-DD6A77A7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1BF0-95F7-4780-B520-E2A45A49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4983-6B25-4603-A827-8167E40B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31CC-E8D0-4628-BFA1-160F4C92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3B61-37B3-4D74-B720-89C1FB6E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2A3B-8225-4AE8-AADB-C8FA03DA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E86-EC7A-43AA-BA2C-F239E4BE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C0DC-3FB1-42CA-A578-88E91ACA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3909-CBFE-41E2-8308-ABB4FBB0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3615-C0C7-4D9A-AF4A-DBBFFED3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A210-4710-4C41-859B-DCFBF7CB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31F8-C17D-4686-94CA-C865FAB1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64C-29C7-4B7B-8379-0142FAE2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1BA-CC98-40E9-BA4C-9771D96B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3F4-7ECE-4516-9960-9C361D6F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82C-78A7-4E59-B695-1DB06519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CB2-E938-43AF-9ECA-91EB6D8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1FA-D5B3-4C96-A59E-DD5439C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DEB-3901-4E7F-9C11-425E438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5221-DBC7-408A-90C6-537B8082CCB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656480" y="5979960"/>
            <a:ext cx="1487520" cy="87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73C4-6210-4757-BD35-ED492F4B018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50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8000" y="3933720"/>
            <a:ext cx="2171520" cy="1282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mericancouncils.org.ua/" TargetMode="External"/><Relationship Id="rId2" Type="http://schemas.openxmlformats.org/officeDocument/2006/relationships/hyperlink" Target="http://www.americancouncils.org.ua/" TargetMode="External"/><Relationship Id="rId3" Type="http://schemas.openxmlformats.org/officeDocument/2006/relationships/hyperlink" Target="http://www.americancouncils.org.ua/" TargetMode="External"/><Relationship Id="rId4" Type="http://schemas.openxmlformats.org/officeDocument/2006/relationships/hyperlink" Target="http://www.americancouncils.org.ua/" TargetMode="External"/><Relationship Id="rId5" Type="http://schemas.openxmlformats.org/officeDocument/2006/relationships/hyperlink" Target="http://www.americancouncils.org.ua/" TargetMode="External"/><Relationship Id="rId6" Type="http://schemas.openxmlformats.org/officeDocument/2006/relationships/hyperlink" Target="http://www.americancouncils.org.ua/" TargetMode="External"/><Relationship Id="rId7" Type="http://schemas.openxmlformats.org/officeDocument/2006/relationships/hyperlink" Target="http://www.americancouncils.org.ua/" TargetMode="External"/><Relationship Id="rId8" Type="http://schemas.openxmlformats.org/officeDocument/2006/relationships/hyperlink" Target="mailto:flex@americancouncils.org.ua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mericancouncils.org.ua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198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рограма обм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іну майбутніх лідерів 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EX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800"/>
            </a:b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рі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221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508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32720" y="3716280"/>
            <a:ext cx="1942920" cy="1693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87640" y="4797360"/>
            <a:ext cx="33116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000000"/>
                </a:solidFill>
                <a:uFillTx/>
                <a:latin typeface="Times New Roman"/>
              </a:rPr>
              <a:t>Третій тур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відбувається через 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</a:rPr>
              <a:t>3</a:t>
            </a: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-6 тижнів після проведення другого туру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стандартизований тест з англійської мови, який виявляє рівень знань мов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заповнення анкет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написання двох невеликих творів англійською мовою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індивідуальна співбесіда англійською та рідною мовам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00"/>
                </a:solidFill>
                <a:uFillTx/>
                <a:latin typeface="Times New Roman"/>
              </a:rPr>
              <a:t>Тестування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L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551664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530064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написання творів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5300640"/>
            <a:ext cx="4535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третій тур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робота у групі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Заключний етап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820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Всі матаріали тестування розглядаються міжнародною незалежною комісією у Вашингтоні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Фіналісти та альтернативні кандидати програми будуть визначені у квітні 201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3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 рок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Фіналісти мають пройти підготовчу програму перед віїздом до СШ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Фіналісти програми, вирушать до США у серпні 201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3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 року, та повернуться у травні-червні 20</a:t>
            </a:r>
            <a:r>
              <a:rPr b="1" lang="ru-RU" sz="2800" spc="-1" strike="noStrike">
                <a:solidFill>
                  <a:srgbClr val="292929"/>
                </a:solidFill>
                <a:latin typeface="Times New Roman"/>
              </a:rPr>
              <a:t>14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 рок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Стипендія програми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LEX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 забезпечує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3516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внутрішній та міжнародний проїзд в обидва кінці (від дому до місця проживання в США і зворотній шлях)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кишенькові гроші на кожен місяць, що допомагають учневі брати участь у суспільному житті та купувати предмети індивідуального користування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розміщення в американській сім’ї терміном на один рік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зарахування в американську середню школу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участь у  програмній орієнтації; підготовку до в’їзду в США і до виїзду із США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організацію у США різноманітних заходів на місцевому рівні;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92929"/>
                </a:solidFill>
                <a:latin typeface="Arial"/>
              </a:rPr>
              <a:t>медичне страхування, покріває лікування всіх хвароб набутих підчас програми на тереторіїї США за винятком стоматологічних витрат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292929"/>
                </a:solidFill>
                <a:uFillTx/>
                <a:latin typeface="Times New Roman"/>
              </a:rPr>
              <a:t>Як учасники програми, школярі</a:t>
            </a:r>
            <a:r>
              <a:rPr b="1" lang="uk-UA" sz="3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отримують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можливість ознайомитися з народом і культурою іншої країни - Сполучених Штатів Америки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опоможуть американцям краще розуміти народ та культуру своєї рідної країни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отримають можливість для особистого росту та набуття </a:t>
            </a: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самостійності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можуть встановити міцні стосунки з членами приймаючих сімей, однолітками, сусідами.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292929"/>
                </a:solidFill>
                <a:uFillTx/>
                <a:latin typeface="Times New Roman"/>
              </a:rPr>
              <a:t>Переваги програми </a:t>
            </a:r>
            <a:r>
              <a:rPr b="1" lang="en-US" sz="4000" spc="-1" strike="noStrike" u="sng">
                <a:solidFill>
                  <a:srgbClr val="292929"/>
                </a:solidFill>
                <a:uFillTx/>
                <a:latin typeface="Times New Roman"/>
              </a:rPr>
              <a:t>FLEX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40719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292929"/>
                </a:solidFill>
                <a:uFillTx/>
                <a:latin typeface="Times New Roman"/>
              </a:rPr>
              <a:t>Переваги програми </a:t>
            </a:r>
            <a:r>
              <a:rPr b="1" lang="en-US" sz="4000" spc="-1" strike="noStrike" u="sng">
                <a:solidFill>
                  <a:srgbClr val="292929"/>
                </a:solidFill>
                <a:uFillTx/>
                <a:latin typeface="Times New Roman"/>
              </a:rPr>
              <a:t>FL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292929"/>
                </a:solidFill>
                <a:uFillTx/>
                <a:latin typeface="Times New Roman"/>
              </a:rPr>
              <a:t>Як випускники програми:</a:t>
            </a:r>
            <a:r>
              <a:rPr b="1" lang="uk-UA" sz="36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використання набутків, отриманих ними підчас перебування у США в Україні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вступити у престижний університе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отримати гарну роботі де вони могли би використовувати знання та навики набуті підчас пр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o</a:t>
            </a: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грами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LEX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EX Alumni – 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ипускники прог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292929"/>
                </a:solidFill>
                <a:uFillTx/>
                <a:latin typeface="Times New Roman"/>
              </a:rPr>
              <a:t>Заходи, в яких випускники приймають участь:</a:t>
            </a:r>
            <a:r>
              <a:rPr b="1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волонтерська та соціальна робот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заходи для професійного розвитк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вечори Англійської мови та культур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семінари та тренінг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міжнародні конференції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Times New Roman"/>
              </a:rPr>
              <a:t>різноманітні проекти у соціалних сферах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ти, в яких приймають участь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 Alumni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95640" y="1825560"/>
            <a:ext cx="4610160" cy="3459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360" y="227664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2363760" cy="3529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5928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Century Gothic"/>
              </a:rPr>
              <a:t>Випусники </a:t>
            </a:r>
            <a:r>
              <a:rPr b="1" lang="en-US" sz="2000" spc="-1" strike="noStrike">
                <a:solidFill>
                  <a:srgbClr val="292929"/>
                </a:solidFill>
                <a:latin typeface="Century Gothic"/>
              </a:rPr>
              <a:t>FLEX </a:t>
            </a:r>
            <a:r>
              <a:rPr b="1" lang="uk-UA" sz="2000" spc="-1" strike="noStrike">
                <a:solidFill>
                  <a:srgbClr val="292929"/>
                </a:solidFill>
                <a:latin typeface="Century Gothic"/>
              </a:rPr>
              <a:t>відвідують дитячий дім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229360"/>
            <a:ext cx="334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Century Gothic"/>
              </a:rPr>
              <a:t>Здача крові: випусники підвищують обізнаність населення про важливість донорств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кти, в яких приймають участь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 Alumn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722760" cy="2624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9640" y="486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Програма збереження навколишнього середовищ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6720" y="530064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48690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Пробіг заради життя: ВІЧ/СНІД</a:t>
            </a:r>
            <a:r>
              <a:rPr b="1" lang="uk-UA" sz="2000" spc="-1" strike="noStrike">
                <a:solidFill>
                  <a:srgbClr val="292929"/>
                </a:solidFill>
                <a:latin typeface="Century Gothic"/>
              </a:rPr>
              <a:t>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Ти можеш стати одним із них наступного року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3384360" cy="2976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4360" y="1844640"/>
            <a:ext cx="728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Century Gothic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они вже навчаються у США та живуть в американських родинах. Цього року їх близьк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582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а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LEX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312560"/>
            <a:ext cx="813564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92929"/>
                </a:solidFill>
                <a:latin typeface="Century"/>
              </a:rPr>
              <a:t>“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Програма обміну для майбутніх лідерів” – програма культурного обміну, яка здійснюється за підтримки Бюро у справах освіти та культури Державного департаменту США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Адмініструється в Україні організацією “</a:t>
            </a:r>
            <a:r>
              <a:rPr b="1" lang="ru-RU" sz="2200" spc="-1" strike="noStrike">
                <a:solidFill>
                  <a:srgbClr val="292929"/>
                </a:solidFill>
                <a:latin typeface="Times New Roman"/>
              </a:rPr>
              <a:t>American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92929"/>
                </a:solidFill>
                <a:latin typeface="Times New Roman"/>
              </a:rPr>
              <a:t>Councils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” за підтримки Міністерства освіти і науки України.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Програма</a:t>
            </a:r>
            <a:r>
              <a:rPr b="1" lang="ru-RU" sz="2200" spc="-1" strike="noStrike">
                <a:solidFill>
                  <a:srgbClr val="292929"/>
                </a:solidFill>
                <a:latin typeface="Times New Roman"/>
              </a:rPr>
              <a:t> дає можливість українським школярам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 навчатись у школі в США, проживаючи в американській сім‘ї протягом одного навчального року.</a:t>
            </a:r>
            <a:r>
              <a:rPr b="1" lang="ru-RU" sz="22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Відбір претендентів </a:t>
            </a:r>
            <a:r>
              <a:rPr b="1" lang="ru-RU" sz="2200" spc="-1" strike="noStrike">
                <a:solidFill>
                  <a:srgbClr val="292929"/>
                </a:solidFill>
                <a:latin typeface="Times New Roman"/>
              </a:rPr>
              <a:t>зд</a:t>
            </a:r>
            <a:r>
              <a:rPr b="1" lang="uk-UA" sz="2200" spc="-1" strike="noStrike">
                <a:solidFill>
                  <a:srgbClr val="292929"/>
                </a:solidFill>
                <a:latin typeface="Times New Roman"/>
              </a:rPr>
              <a:t>ійснюється шляхом відкритого конкурсу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582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рафік проведення конкурс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79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Інформацію щодо проведення  конкурсу в кожному центрі тестувань по Україні можна побачити на веб-сайті:  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uk-UA" sz="20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americancouncils</a:t>
            </a:r>
            <a:r>
              <a:rPr b="0" lang="uk-UA" sz="2000" spc="-1" strike="noStrike" u="sng">
                <a:solidFill>
                  <a:srgbClr val="999933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5"/>
              </a:rPr>
              <a:t>org</a:t>
            </a:r>
            <a:r>
              <a:rPr b="0" lang="uk-UA" sz="2000" spc="-1" strike="noStrike" u="sng">
                <a:solidFill>
                  <a:srgbClr val="999933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7"/>
              </a:rPr>
              <a:t>u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По додаткову інформацію, будь ласка, звертайтеся до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American Councils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292929"/>
                </a:solidFill>
                <a:uFillTx/>
                <a:latin typeface="Times New Roman"/>
              </a:rPr>
              <a:t>Киї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вул.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Еспланадна, 2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Київ 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0100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тел.:  (044)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289-3952, 289-3953, 289-3977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факс:  (044)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289-3977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e-mail: 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8"/>
              </a:rPr>
              <a:t>flex@americancouncils.org.u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6227640" y="3933720"/>
            <a:ext cx="21718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000000"/>
                </a:solidFill>
                <a:uFillTx/>
                <a:latin typeface="Times New Roman"/>
              </a:rPr>
              <a:t>Вимоги до конкурсантів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800"/>
            </a:b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201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uk-UA" sz="4800" spc="-1" strike="noStrike" u="sng">
                <a:solidFill>
                  <a:srgbClr val="000000"/>
                </a:solidFill>
                <a:uFillTx/>
                <a:latin typeface="Times New Roman"/>
              </a:rPr>
              <a:t> року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3534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Дата народження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- </a:t>
            </a:r>
            <a:r>
              <a:rPr b="1" lang="en-US" sz="2400" spc="-1" strike="noStrike" u="sng">
                <a:solidFill>
                  <a:srgbClr val="292929"/>
                </a:solidFill>
                <a:uFillTx/>
                <a:latin typeface="Times New Roman"/>
              </a:rPr>
              <a:t>01.01.1997 – 15.07.199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Навчання в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8, 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9 або 10 класі школ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Гарне володіння англійською мовою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Українське громадянств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Конкурсант не мав перебувати у США більш ніж три  місяці  впродовж останніх п</a:t>
            </a:r>
            <a:r>
              <a:rPr b="1" lang="ru-RU" sz="2400" spc="-1" strike="noStrike">
                <a:solidFill>
                  <a:srgbClr val="292929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яти років</a:t>
            </a:r>
            <a:r>
              <a:rPr b="1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-27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Критерії по віку і класу для учнів з обмеженими фізичними можлив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281160" y="197820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93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292929"/>
                </a:solidFill>
                <a:uFillTx/>
                <a:latin typeface="Times New Roman"/>
              </a:rPr>
              <a:t>Кандидати повинні: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Бути народжені з 15 березня </a:t>
            </a:r>
            <a:r>
              <a:rPr b="1" lang="en-US" sz="2800" spc="-1" strike="noStrike">
                <a:solidFill>
                  <a:srgbClr val="29292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1996 по 15 липня 1999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Навчатися у 8, 9, 10 або 11 класі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29"/>
                </a:solidFill>
                <a:latin typeface="Times New Roman"/>
              </a:rPr>
              <a:t>Бути громадянами України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Picture 4" descr="D:\My Documents\My Dropbox\Website photos\Cleared Photos\Temirov, Firdavs 2010 Locker.jpg"/>
          <p:cNvPicPr/>
          <p:nvPr/>
        </p:nvPicPr>
        <p:blipFill>
          <a:blip r:embed="rId1"/>
          <a:stretch/>
        </p:blipFill>
        <p:spPr>
          <a:xfrm>
            <a:off x="5580000" y="170028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:\My Documents\My Dropbox\Website photos\Cleared Photos\Kozhevnikova, Alina 2010 Newspaper.bmp"/>
          <p:cNvPicPr/>
          <p:nvPr/>
        </p:nvPicPr>
        <p:blipFill>
          <a:blip r:embed="rId2"/>
          <a:stretch/>
        </p:blipFill>
        <p:spPr>
          <a:xfrm>
            <a:off x="6732720" y="3789360"/>
            <a:ext cx="1569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5760" y="549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рограма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USA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bility International, US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0840" y="21225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Учні з обмеженнями, які стали фіналістами програми FLEX, в кінці липня, перед тим, як подорожувати до своїх американських родин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,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 беруть участь у тижневому семінарі по навичкам самостійності в місті Юджин, штат Орегон,. Семінар MIUSA включає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Times New Roman"/>
              </a:rPr>
              <a:t>Інтерактивні заняття про життя в США для людей із обмеженнями, включно з правами та можливостями в освіті та громадській активності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Times New Roman"/>
              </a:rPr>
              <a:t>Заняття з розвитку лідерства, умінь роботи в команді та навичок вирішення проблем</a:t>
            </a:r>
            <a:r>
              <a:rPr b="0" lang="ru-RU" sz="1600" spc="-1" strike="noStrike">
                <a:solidFill>
                  <a:srgbClr val="292929"/>
                </a:solidFill>
                <a:latin typeface="Times New Roman"/>
              </a:rPr>
              <a:t>;</a:t>
            </a:r>
            <a:r>
              <a:rPr b="0" lang="uk-UA" sz="16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Times New Roman"/>
              </a:rPr>
              <a:t>Планування дій для досягнення коротко- і довготермінових цілей протягом року в США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рограма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C:\Documents and Settings\Komp49\My Documents\Dropbox\Website photos\Cleared Photos\Mogildea, Gheorghe 2009 MIUSA.jpg"/>
          <p:cNvPicPr/>
          <p:nvPr/>
        </p:nvPicPr>
        <p:blipFill>
          <a:blip r:embed="rId1"/>
          <a:stretch/>
        </p:blipFill>
        <p:spPr>
          <a:xfrm>
            <a:off x="539640" y="2133720"/>
            <a:ext cx="2071800" cy="273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Komp49\My Documents\Dropbox\Website photos\Cleared Photos\Sivko, Valeriya 2011 challenge course.JPG"/>
          <p:cNvPicPr/>
          <p:nvPr/>
        </p:nvPicPr>
        <p:blipFill>
          <a:blip r:embed="rId2"/>
          <a:stretch/>
        </p:blipFill>
        <p:spPr>
          <a:xfrm>
            <a:off x="2771640" y="2133720"/>
            <a:ext cx="198144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D:\My Documents\My Dropbox\Website photos\Cleared Photos\Kozhevnikova, Alina Strength Training.jpg"/>
          <p:cNvPicPr/>
          <p:nvPr/>
        </p:nvPicPr>
        <p:blipFill>
          <a:blip r:embed="rId3"/>
          <a:stretch/>
        </p:blipFill>
        <p:spPr>
          <a:xfrm>
            <a:off x="5003640" y="2133720"/>
            <a:ext cx="352908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Як бути, якщо моя англійська недостатньо гар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835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Якщо Вас оберуть фіналістом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FLEX 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і Ваші мовні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навички виявляться недостатніми, існує дві можливості покращення Вашої англійської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Ви можете стати учасником табору Американських Рад «Англійська, як іноземна мова» у Молдові (Кишинів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Вас можуть обрати як учасника </a:t>
            </a:r>
            <a:r>
              <a:rPr b="1" lang="en-US" sz="2000" spc="-1" strike="noStrike">
                <a:solidFill>
                  <a:srgbClr val="292929"/>
                </a:solidFill>
                <a:latin typeface="Times New Roman"/>
              </a:rPr>
              <a:t>FLEX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, який підпадає під Мовну Програму. Це означає, що Ваша Приймаюча Організація забезпечить мінімум 14днів інтенсивного навчання або репетиторства з англійської мови в США до початку Вашого навчання у школі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</a:rPr>
              <a:t>Що необхідно мати при собі для участі в конкурсі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Times New Roman"/>
              </a:rPr>
              <a:t>оригінал свідоцтва про народженн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Times New Roman"/>
              </a:rPr>
              <a:t>фотокартку 3X4 (20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12 </a:t>
            </a: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року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Times New Roman"/>
              </a:rPr>
              <a:t>ручку</a:t>
            </a:r>
            <a:r>
              <a:rPr b="1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Підписану одним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 з батьків 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учасника конкурсу </a:t>
            </a:r>
            <a:r>
              <a:rPr b="1" lang="ru-RU" sz="2000" spc="-1" strike="noStrike" u="sng">
                <a:solidFill>
                  <a:srgbClr val="292929"/>
                </a:solidFill>
                <a:uFillTx/>
                <a:latin typeface="Times New Roman"/>
              </a:rPr>
              <a:t>згоду на обробку персональних  даних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(цей документ необхідно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 завантажи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ти з нашого вебсайту  </a:t>
            </a:r>
            <a:r>
              <a:rPr b="1" lang="uk-UA" sz="2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americancouncils.org.ua</a:t>
            </a:r>
            <a:r>
              <a:rPr b="1" lang="ru-RU" sz="20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906480" indent="-45720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92929"/>
                </a:solidFill>
                <a:latin typeface="Times New Roman"/>
              </a:rPr>
              <a:t>УВАГА! Школярі, які не матимуть цьогодокумента у день</a:t>
            </a:r>
            <a:r>
              <a:rPr b="1" lang="en-US" sz="1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292929"/>
                </a:solidFill>
                <a:latin typeface="Times New Roman"/>
              </a:rPr>
              <a:t>проведення конкурсу дотестування допущені не 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</a:rPr>
              <a:t>б</a:t>
            </a:r>
            <a:r>
              <a:rPr b="1" lang="uk-UA" sz="1800" spc="-1" strike="noStrike">
                <a:solidFill>
                  <a:srgbClr val="292929"/>
                </a:solidFill>
                <a:latin typeface="Times New Roman"/>
              </a:rPr>
              <a:t>удуть</a:t>
            </a:r>
            <a:r>
              <a:rPr b="1" lang="ru-RU" sz="1800" spc="-1" strike="noStrike">
                <a:solidFill>
                  <a:srgbClr val="292929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000000"/>
                </a:solidFill>
                <a:uFillTx/>
                <a:latin typeface="Times New Roman"/>
              </a:rPr>
              <a:t>Тестування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LEX </a:t>
            </a:r>
            <a:r>
              <a:rPr b="1" lang="uk-UA" sz="4800" spc="-1" strike="noStrike" u="sng">
                <a:solidFill>
                  <a:srgbClr val="000000"/>
                </a:solidFill>
                <a:uFillTx/>
                <a:latin typeface="Times New Roman"/>
              </a:rPr>
              <a:t>складаеться: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292929"/>
                </a:solidFill>
                <a:uFillTx/>
                <a:latin typeface="Times New Roman"/>
              </a:rPr>
              <a:t>Перший тур</a:t>
            </a:r>
            <a:r>
              <a:rPr b="1" lang="ru-RU" sz="2400" spc="-1" strike="noStrike" u="sng">
                <a:solidFill>
                  <a:srgbClr val="292929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це невеликий письмовий тест з англійської мови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зазвичай результати першого туру відомі в день його проведення.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292929"/>
                </a:solidFill>
                <a:uFillTx/>
                <a:latin typeface="Times New Roman"/>
              </a:rPr>
              <a:t>Другий тур: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три невеликих твори на задані теми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другий тур, як правило, відбувається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наступного дня</a:t>
            </a: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 після першого туру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Times New Roman"/>
              </a:rPr>
              <a:t>всі матеріали другого туру надсилаються до Вашингтону для оцінювання незалежною комісією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8:06:31Z</dcterms:created>
  <dc:creator>User_Accels</dc:creator>
  <dc:description/>
  <dc:language>en-US</dc:language>
  <cp:lastModifiedBy>user_accels</cp:lastModifiedBy>
  <dcterms:modified xsi:type="dcterms:W3CDTF">2013-04-01T12:51:58Z</dcterms:modified>
  <cp:revision>33</cp:revision>
  <dc:subject/>
  <dc:title>Програма обміну майбутніх лідерів (FLEX) 2009-2010 рік</dc:title>
</cp:coreProperties>
</file>