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A487-0D6D-4FEE-9FD2-FADB05EFBE5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1F3-C4B5-494A-84DE-C7C4C60D1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017D-21D8-4C0B-AE59-19D69D638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CAF2-BCA7-4405-8C0B-75A9E37C3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793-F972-457A-9793-63B6CFE6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E39-8755-4D7C-BB14-3AB068B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B24-EC86-44C6-9FA9-E95434A5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A97-5864-4BDB-8714-C4B62E51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CC6E-F429-4CB3-9A67-9CCFC0E5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6A5-8037-4F31-9CC8-4D4B70D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4AF8-F058-415E-BC14-18A41DCF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59B9-621B-4E0B-8E54-0C7379C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ABCE-D3BB-40EE-A69B-C5067C2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789-7DC8-417D-B052-7943868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8A4-FEB6-4EF5-9B00-CCD6836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2D9-38E6-4D23-82E1-05F7555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609E-71D2-46F9-8A78-4781B6E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FC8-7BC2-4B33-98C4-D41CDD8D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FC3E-B331-4360-B336-CB9880CB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6001-75CF-41E8-98B9-F27A5385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6AE9-1700-45B2-A670-B991C993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1A2-2008-4DC5-B51E-E814E5C2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742-E0E9-4401-A56C-E5CC117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883-5A82-4363-9B3F-9A9CA7F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355-4118-4125-B848-CEEB73C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046-A5C2-40DF-A57E-94BFB12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DC5-DFE6-46C1-86E6-7B1E639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5B3-53E0-4171-AD88-0A207E5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778-E385-4CBF-83A5-B10885E90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002 Відділ преси, освіти та культури Посольства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D9B-495D-4050-B875-A776A148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irex.ua/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162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Tahoma"/>
              </a:rPr>
              <a:t>Програми Уряду США </a:t>
            </a:r>
            <a:br>
              <a:rPr sz="4400"/>
            </a:br>
            <a:r>
              <a:rPr b="0" lang="uk-UA" sz="4400" spc="-1" strike="noStrike">
                <a:solidFill>
                  <a:srgbClr val="a50021"/>
                </a:solidFill>
                <a:latin typeface="Tahoma"/>
              </a:rPr>
              <a:t>в Украї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571920" y="2857680"/>
            <a:ext cx="1714320" cy="1609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804040" y="5715000"/>
            <a:ext cx="33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blic Affair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 Embassy – 2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Щомісячна стипендія на особисті витра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Щомісячна оплата жит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Медичне страхуванн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езкоштовний до США та назад до Украї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шти на придбанн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фесійної літератури та підручник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ідвідання професійних заходів у СШ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Типовий фінансовий пакет учасника прог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150012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-й етап – розгляд документів, відбір півфіналіс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-й ета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півбесіда (англійською мовою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ува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офіційний тес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EFL iB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Internet-based Test of English as a Foreign Language)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– для всі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 General Test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кандидатів у суспільних на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 Subject Test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кандидаті у природничих, прикладних та фундаментальних на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Arial"/>
              </a:rPr>
              <a:t>Типовий процес відбору учас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Unicode MS"/>
              </a:rPr>
              <a:t>Американські рад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ACTR/ACC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53735"/>
                </a:solidFill>
                <a:latin typeface="Arial Unicode MS"/>
              </a:rPr>
              <a:t>Американські ради з міжнародної освіти: </a:t>
            </a:r>
            <a:r>
              <a:rPr b="0" lang="en-US" sz="4000" spc="-1" strike="noStrike">
                <a:solidFill>
                  <a:srgbClr val="953735"/>
                </a:solidFill>
                <a:latin typeface="Arial Unicode MS"/>
              </a:rPr>
              <a:t>ACTR/ACC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7120" y="2714760"/>
            <a:ext cx="8643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обміну майбутніх лідері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стажування працівникі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давчої влади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F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643120" y="269640"/>
            <a:ext cx="55864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Програма обміну майбутніх лідерів (FLE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42960" y="2328840"/>
            <a:ext cx="7786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Програма обміну для школяр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Програма культурного обміну, яка здійснюється за підтримки Бюро у справах освіти та культури Державного департаменту СШ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Lucida Sans Unicode"/>
              </a:rPr>
              <a:t>Адмініструється в Україні організацією “American Councils” за підтримки Міністерства освіти і науки Україн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flex_BEST"/>
          <p:cNvPicPr/>
          <p:nvPr/>
        </p:nvPicPr>
        <p:blipFill>
          <a:blip r:embed="rId1"/>
          <a:stretch/>
        </p:blipFill>
        <p:spPr>
          <a:xfrm>
            <a:off x="571680" y="428760"/>
            <a:ext cx="2354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грама дає можливість українським школярам навчатись у школі в США, проживаючи в американській сім‘ї протягом одного навчального р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бір претендентів здійснюється шляхом відкритого конкур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чаток - вересень 2013 рок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Програма FLEX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та народж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01.01.1997 – 15.07.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ання в 8, 9 або 10 класі шк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рне володіння англійською мов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е громадян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нт не мав перебувати у США більше трьох  місяців  впродовж останніх п’яти рокі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Вимоги до конкурсантів 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FLEX 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201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 року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1356840"/>
            <a:ext cx="8472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ший ту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еликий письмовий тест з англійської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ругий ту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невеликих твори на задані 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тій ту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внення анк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изований тест з англійської мови, що виявляє рівень знань м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ння двох невеликих творів англійською мово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індивідуальна співбесіда англійською та рідною мо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Тестування FLEX складається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Calibri"/>
              </a:rPr>
              <a:t>Стипендія програми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FLEX</a:t>
            </a:r>
            <a:r>
              <a:rPr b="1" lang="uk-UA" sz="4000" spc="-1" strike="noStrike">
                <a:solidFill>
                  <a:srgbClr val="ff3300"/>
                </a:solidFill>
                <a:latin typeface="Calibri"/>
              </a:rPr>
              <a:t> забезпечує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6770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нутрішній та міжнародний проїзд в обидва кінці (від дому до місця проживання в США і зворотній шлях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ишенькові гроші на кожен місяць, що допомагають учневі брати участь у суспільному житті та купувати предмети індивідуального користуванн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озміщення в американській сім’ї терміном на один рік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рахування в американську середню школу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участь у  програмній орієнтації та підготовку до в’їзду в США і до виїзду із США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рганізацію у США різноманітних заходів на місцевому рівн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едичне страхуванн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73000"/>
            <a:ext cx="8147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Програма FLEX включає окрему програму для дітей з обмеженими фізичними можливостя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Кожного року, по цій програмі, 2-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 учнів їдуть до США на навчанн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Calibri"/>
              </a:rPr>
              <a:t>Вимоги для учасників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ата народження 15.03.1996 – 15.07.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вчання в 8, 9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або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класі школ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Гарне володіння англійською мовою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Українське громадянств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Конкурсант не мав перебувати у США більше трьох  місяців  впродовж останніх п’яти років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FLEX</a:t>
            </a: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 для дітей з обмеженими </a:t>
            </a:r>
            <a:br>
              <a:rPr sz="3300"/>
            </a:br>
            <a:r>
              <a:rPr b="1" lang="uk-UA" sz="3300" spc="-1" strike="noStrike">
                <a:solidFill>
                  <a:srgbClr val="ff3300"/>
                </a:solidFill>
                <a:latin typeface="Calibri"/>
              </a:rPr>
              <a:t>фізичними можливостям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042920" y="1989000"/>
            <a:ext cx="72453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для школяр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для студентів 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4 курсів ВН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навчання на магістерськорму рівн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професійного розвит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викладачів середньої шк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для науковці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  <a:ea typeface="Arial"/>
              </a:rPr>
              <a:t>Академічні та професійні прог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1844280"/>
            <a:ext cx="55864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Calibri"/>
              </a:rPr>
              <a:t>Програма стажування працівників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1" lang="uk-UA" sz="2800" spc="-1" strike="noStrike">
                <a:solidFill>
                  <a:srgbClr val="ff3300"/>
                </a:solidFill>
                <a:latin typeface="Calibri"/>
              </a:rPr>
              <a:t>законодавчої влади  (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F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57120" y="3429000"/>
            <a:ext cx="77868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а програма 4-тижневого стажування в органах законодавчої влади СШ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фахівців у галузі міжнародного права, юриспруденції, міжнародних відносин, політології та державного управл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ttp://professionalfellows.americancouncils.org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v1"/>
          <p:cNvPicPr/>
          <p:nvPr/>
        </p:nvPicPr>
        <p:blipFill>
          <a:blip r:embed="rId1"/>
          <a:stretch/>
        </p:blipFill>
        <p:spPr>
          <a:xfrm>
            <a:off x="0" y="-71280"/>
            <a:ext cx="3352680" cy="190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PFPLogo_horizontal"/>
          <p:cNvPicPr/>
          <p:nvPr/>
        </p:nvPicPr>
        <p:blipFill>
          <a:blip r:embed="rId2"/>
          <a:stretch/>
        </p:blipFill>
        <p:spPr>
          <a:xfrm>
            <a:off x="4100400" y="285840"/>
            <a:ext cx="4114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3300"/>
                </a:solidFill>
                <a:latin typeface="Calibri"/>
              </a:rPr>
              <a:t>Вимоги до учасників </a:t>
            </a:r>
            <a:br>
              <a:rPr sz="3800"/>
            </a:br>
            <a:r>
              <a:rPr b="1" lang="uk-UA" sz="3800" spc="-1" strike="noStrike">
                <a:solidFill>
                  <a:srgbClr val="ff3300"/>
                </a:solidFill>
                <a:latin typeface="Calibri"/>
              </a:rPr>
              <a:t>програми </a:t>
            </a:r>
            <a:r>
              <a:rPr b="1" lang="en-US" sz="3800" spc="-1" strike="noStrike">
                <a:solidFill>
                  <a:srgbClr val="ff3300"/>
                </a:solidFill>
                <a:latin typeface="Calibri"/>
              </a:rPr>
              <a:t>LFP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ромадяни Вірменії, Азербайджану, Грузії, Молдови, Росії, Туреччини чи Украї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к від 25 до 35 рр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пускники ВНЗів (ступінь бакалавра, магістра, кандидата нау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льн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одіння англійською мово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дповідний досвід роботи у державному секторі (законодавча, виконавча влада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рядові організації тощ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дерські та комунікативні нави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Calibri"/>
              </a:rPr>
              <a:t>Процес відбору кандидатів </a:t>
            </a: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LFP</a:t>
            </a:r>
            <a:r>
              <a:rPr b="0" lang="uk-UA" sz="36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13960" y="29570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повнення анкети на сайт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ttp://ais.americancouncils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ходження інтерв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ю у Києв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emi-fi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добуття ві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Посольство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Відділ преси, освіти та культу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9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Програма ім. Губерта Г. Гамфрі</a:t>
            </a:r>
            <a:br>
              <a:rPr sz="3600"/>
            </a:b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ubert H. Humphrey Fellowship</a:t>
            </a:r>
            <a:br>
              <a:rPr sz="2700"/>
            </a:b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for Mid-Career professiona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0" y="378576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  <a:ea typeface="Arial"/>
              </a:rPr>
              <a:t>Стажування для фахівців на середньому етапі розвитку кар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  <a:ea typeface="Arial"/>
              </a:rPr>
              <a:t>є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олітика та управління у галузі охорони здоров'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Лікування та запобігання поширенню наркологічної залежност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олітика щодо запобігання ВІЛ/СНІД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Природні ресурси/ політика щодо довкілля/ зміна клімат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іське та регіональне плануванн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Економічний розвит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Фінансова та банківська спра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Управління в освіті, планування та політи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Державна політика та державне управлінн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Аграрний та сільський розвит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Hubert H. Humphrey Fellow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Фахівці із закінченою вищою осві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находяться на середньому етапі професійної кар'єри - щонайменше 5 років досвіду роб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ють вплив на політику та стратегію розвитку своєї галузі: менеджери та адміністр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атного се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ержавного се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кладів осві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Програма ім. Губерта Г. Гамфрі:</a:t>
            </a:r>
            <a:br>
              <a:rPr sz="2800"/>
            </a:b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вимоги до учасн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Викладачі ВНЗ від 30-50 ро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ТЕ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Сучасна американська лі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Зовнішня полі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Політика США таПолітолог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Американська культура та суспі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Релі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Журналі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Unicode MS"/>
              </a:rPr>
              <a:t>Методика викладання американських студій у середній школ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Літні школи з американістики у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Вимоги до учасник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кладачі середніх шкіл у 5-11 клас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дь-яка базова галузь викладання у школ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явність гарного проекту у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ільне володіння англійською мов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рограма для викладачів середніх шкіл (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EA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276640"/>
            <a:ext cx="822960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ми тижнева програ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ієнтацію у Вашингтоні – 4 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жування з методики викладання в університеті – 4 тиж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жування в американські школі – 2 тиж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тановча конференція у Вашингтоні – 3 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Calibri"/>
              </a:rPr>
              <a:t>Програма для викладачів середніх шкіл (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E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Відділ преси, освіти та культури, Посольство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Американські Ради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(ACTR/ACCE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Рада міжнародних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наукових досліджень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та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обміні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REX</a:t>
            </a: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Unicode MS"/>
              </a:rPr>
              <a:t>Офіс програм ім. Фулбрай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Calibri"/>
              </a:rPr>
              <a:t>Організації – виконавці про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24919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ідділ преси, освіти та культур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ул. Глибочицька 4 м. Київ 04050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044) 490-40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ukraine.usembassy.gov/exchange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</a:rPr>
              <a:t>Посольство США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1000080" y="3000240"/>
            <a:ext cx="8215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дидатів та докторів наук, дослідників та аспірантів напередодні захи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молодих викладачів та дослід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я студентів старших курсів та випускників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1"/>
          <p:cNvSpPr/>
          <p:nvPr/>
        </p:nvSpPr>
        <p:spPr>
          <a:xfrm>
            <a:off x="2857680" y="5000760"/>
            <a:ext cx="628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ГУМАНІТАРНІ, СОЦІАЛЬНІ, ТОЧНІ, ТЕХНІЧНІ ТА ПРИРОДНИЧІ ДИСЦИПЛІ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Content Placeholder 2"/>
          <p:cNvSpPr/>
          <p:nvPr/>
        </p:nvSpPr>
        <p:spPr>
          <a:xfrm>
            <a:off x="1000080" y="3000240"/>
            <a:ext cx="8215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Schola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Faculty Development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bright Graduate Student Exchan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Fulbright Schola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Fulbright Specialist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Graduate Student Exchange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Content Placeholder 2"/>
          <p:cNvSpPr/>
          <p:nvPr/>
        </p:nvSpPr>
        <p:spPr>
          <a:xfrm>
            <a:off x="1000080" y="3000240"/>
            <a:ext cx="771516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ння в університетах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одного до двох років для здобуттяступеня магі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онкурсі можуть брати участь студенти старших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6-х курсів), випускники українських ВНЗ, аспіра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-2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у та молоді спеціалі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  <a:ea typeface="Arial"/>
              </a:rPr>
              <a:t>кінцевий термін подання документів - 16 тра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Graduate Student Exchange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Content Placeholder 2"/>
          <p:cNvSpPr/>
          <p:nvPr/>
        </p:nvSpPr>
        <p:spPr>
          <a:xfrm>
            <a:off x="1000080" y="3214800"/>
            <a:ext cx="814392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цензування проек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івбесід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англійською мовою)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та тестуванн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іналісти складатимуть комп’ютерні те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EFL iB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net-based Test of English as a Foreign Language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 General 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duate Record Exa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-й етап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твердження рекомендованих кандидатів та визначення університетів для фіналістів Прог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285920" y="27147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Відбір учас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Faculty Development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Content Placeholder 2"/>
          <p:cNvSpPr/>
          <p:nvPr/>
        </p:nvSpPr>
        <p:spPr>
          <a:xfrm>
            <a:off x="1000080" y="3000240"/>
            <a:ext cx="77151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лідницька програма для молодих викладачів та науковців, журналістів, фахівців з бібліотечної, музейної, архівної справи та спеціалістів у галузі управління куль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інцевий термін подання документів - 31 берез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33"/>
                </a:solidFill>
                <a:latin typeface="Arial"/>
                <a:ea typeface="Arial"/>
              </a:rPr>
              <a:t>Fulbright Faculty Development Program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1000080" y="3143160"/>
            <a:ext cx="7715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онкурсі можуть брати участь науковці та спеціалісти з дворічним професійним досвідом, віком до 40 рокі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 ще не мають наукового ступе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та молоді кандидати на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85680" y="1000080"/>
            <a:ext cx="5643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53735"/>
                </a:solidFill>
                <a:latin typeface="Arial"/>
                <a:ea typeface="Arial"/>
              </a:rPr>
              <a:t>Програма імені Фулбрайта в Україні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2"/>
          <p:cNvSpPr/>
          <p:nvPr/>
        </p:nvSpPr>
        <p:spPr>
          <a:xfrm>
            <a:off x="2357280" y="3000240"/>
            <a:ext cx="6786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 fulbright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ул. Еспланадна, 20, офіс 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їв 01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044) 287-0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@fulbright.com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Рада міжнародних обмінів науковц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Unicode MS"/>
              </a:rPr>
              <a:t>IR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e Global Undergraduate Exchange Progra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55640" y="6276960"/>
            <a:ext cx="77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ontent Placeholder 4" descr="GlobalUgradLogo"/>
          <p:cNvPicPr/>
          <p:nvPr/>
        </p:nvPicPr>
        <p:blipFill>
          <a:blip r:embed="rId1"/>
          <a:stretch/>
        </p:blipFill>
        <p:spPr>
          <a:xfrm>
            <a:off x="468360" y="2276640"/>
            <a:ext cx="8236080" cy="26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рограми для школярів та студент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685800" y="5029200"/>
            <a:ext cx="8152920" cy="1031400"/>
            <a:chOff x="685800" y="5029200"/>
            <a:chExt cx="8152920" cy="1031400"/>
          </a:xfrm>
        </p:grpSpPr>
        <p:sp>
          <p:nvSpPr>
            <p:cNvPr id="100" name="AutoShape 15"/>
            <p:cNvSpPr/>
            <p:nvPr/>
          </p:nvSpPr>
          <p:spPr>
            <a:xfrm>
              <a:off x="685800" y="5029200"/>
              <a:ext cx="8152920" cy="958320"/>
            </a:xfrm>
            <a:prstGeom prst="roundRect">
              <a:avLst>
                <a:gd name="adj" fmla="val 16667"/>
              </a:avLst>
            </a:prstGeom>
            <a:solidFill>
              <a:srgbClr val="b0eebd"/>
            </a:solidFill>
            <a:ln w="9360">
              <a:solidFill>
                <a:srgbClr val="50c0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6" descr="emb_eagle1"/>
            <p:cNvPicPr/>
            <p:nvPr/>
          </p:nvPicPr>
          <p:blipFill>
            <a:blip r:embed="rId1"/>
            <a:stretch/>
          </p:blipFill>
          <p:spPr>
            <a:xfrm>
              <a:off x="808920" y="5109120"/>
              <a:ext cx="1029600" cy="95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WordArt 17"/>
            <p:cNvSpPr txBox="1"/>
            <p:nvPr/>
          </p:nvSpPr>
          <p:spPr>
            <a:xfrm>
              <a:off x="1973160" y="5029200"/>
              <a:ext cx="6591960" cy="8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ідділ преси, освіти та культури Посольства США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ublic Affairs Section, US Embassy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3" name="Text Box 29"/>
          <p:cNvSpPr/>
          <p:nvPr/>
        </p:nvSpPr>
        <p:spPr>
          <a:xfrm>
            <a:off x="5508720" y="2492280"/>
            <a:ext cx="1752480" cy="520560"/>
          </a:xfrm>
          <a:prstGeom prst="rect">
            <a:avLst/>
          </a:prstGeom>
          <a:solidFill>
            <a:srgbClr val="cc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4932360" y="3284640"/>
            <a:ext cx="2952720" cy="13636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5311800" y="3505320"/>
            <a:ext cx="19875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мериканськ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1116000" y="2205000"/>
            <a:ext cx="3095640" cy="703800"/>
          </a:xfrm>
          <a:prstGeom prst="rect">
            <a:avLst/>
          </a:prstGeom>
          <a:solidFill>
            <a:srgbClr val="cc99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Undergraduat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1476360" y="3429000"/>
            <a:ext cx="2016000" cy="1219320"/>
          </a:xfrm>
          <a:prstGeom prst="ellipse">
            <a:avLst/>
          </a:prstGeom>
          <a:solidFill>
            <a:srgbClr val="3b84b1"/>
          </a:solidFill>
          <a:ln w="38160">
            <a:solidFill>
              <a:srgbClr val="3b8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763640" y="3789360"/>
            <a:ext cx="1568520" cy="520560"/>
          </a:xfrm>
          <a:prstGeom prst="rect">
            <a:avLst/>
          </a:prstGeom>
          <a:solidFill>
            <a:srgbClr val="3b84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R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 flipV="1">
            <a:off x="2484360" y="46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 flipV="1">
            <a:off x="6443640" y="46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2411280" y="321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6372360" y="2997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pportunity for current first, second, third, an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year undergraduate students to spend one academic year of non-degree study in a US university or community colle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are selected through an open, merit-based compet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UGRAD fellows are placed at accredited universities and colleges throughout the US for a yearlong program of full-time stu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fellowship is fully f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lobal UGRAD Program Over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lobal UGRAD Program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ellows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 classes full-time for one academic yea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a minimum of 20 hours of community service in their host cit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two presentations sharing their countries’ histories and traditions with Americans at their host institutions and in off-campus setting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a part-time internship during their second semes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333000"/>
            <a:ext cx="8208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61800" y="1714320"/>
            <a:ext cx="6699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REX Ukra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Vul. Saksahanskoho 36D, 2</a:t>
            </a:r>
            <a:r>
              <a:rPr b="1" lang="en-US" sz="27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ntrance, 5th Floor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Kyiv, Ukraine 0103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hone/Fax:  (380)(44) 537-0604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537-2780, 537-2781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eb: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rex.u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Calibri"/>
              </a:rPr>
              <a:t>Where to find more inform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357200"/>
            <a:ext cx="8472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yiv.usembassy.gov/educult_partner_organizations_e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uk-UA" sz="3200" spc="-1" strike="noStrike">
                <a:solidFill>
                  <a:srgbClr val="cc0066"/>
                </a:solidFill>
                <a:latin typeface="Calibri"/>
              </a:rPr>
              <a:t>Консультативні центри з питань освіти 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Calibri"/>
              </a:rPr>
              <a:t>Educational Advising </a:t>
            </a:r>
            <a:r>
              <a:rPr b="0" lang="uk-UA" sz="3200" spc="-1" strike="noStrike">
                <a:solidFill>
                  <a:srgbClr val="cc0066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cc0066"/>
                </a:solidFill>
                <a:latin typeface="Calibri"/>
              </a:rPr>
              <a:t>enters</a:t>
            </a:r>
            <a:br>
              <a:rPr sz="2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1332000" y="1844640"/>
            <a:ext cx="6775200" cy="3959280"/>
            <a:chOff x="1332000" y="1844640"/>
            <a:chExt cx="6775200" cy="3959280"/>
          </a:xfrm>
        </p:grpSpPr>
        <p:pic>
          <p:nvPicPr>
            <p:cNvPr id="236" name="Picture 5" descr="e_ukr"/>
            <p:cNvPicPr/>
            <p:nvPr/>
          </p:nvPicPr>
          <p:blipFill>
            <a:blip r:embed="rId1"/>
            <a:stretch/>
          </p:blipFill>
          <p:spPr>
            <a:xfrm>
              <a:off x="1332000" y="1844640"/>
              <a:ext cx="6775200" cy="395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10"/>
            <p:cNvGrpSpPr/>
            <p:nvPr/>
          </p:nvGrpSpPr>
          <p:grpSpPr>
            <a:xfrm>
              <a:off x="2260440" y="2987640"/>
              <a:ext cx="4290840" cy="2417760"/>
              <a:chOff x="2260440" y="2987640"/>
              <a:chExt cx="4290840" cy="2417760"/>
            </a:xfrm>
          </p:grpSpPr>
          <p:sp>
            <p:nvSpPr>
              <p:cNvPr id="238" name="Oval 9"/>
              <p:cNvSpPr/>
              <p:nvPr/>
            </p:nvSpPr>
            <p:spPr>
              <a:xfrm>
                <a:off x="2260440" y="305892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1"/>
              <p:cNvSpPr/>
              <p:nvPr/>
            </p:nvSpPr>
            <p:spPr>
              <a:xfrm>
                <a:off x="4331880" y="2987640"/>
                <a:ext cx="21744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5403600" y="391644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6332400" y="313020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7"/>
              <p:cNvSpPr/>
              <p:nvPr/>
            </p:nvSpPr>
            <p:spPr>
              <a:xfrm>
                <a:off x="5975280" y="5202360"/>
                <a:ext cx="218880" cy="2030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Oval 28"/>
          <p:cNvSpPr/>
          <p:nvPr/>
        </p:nvSpPr>
        <p:spPr>
          <a:xfrm>
            <a:off x="5786280" y="5214960"/>
            <a:ext cx="219240" cy="203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Ресурси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EducationUSA </a:t>
            </a: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у Києв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216000" y="1334520"/>
            <a:ext cx="86770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ові матеріали стосовно процесу вступ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чі матеріали до тесті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ники про коледжі та універс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и окреми ВНЗ у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в інтерн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сторін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mericancouncilskyiv.org.ua/E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д поді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ac.kyiv@gmai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д вебінарі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ducationusa.info/edusa_connec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іальні мережі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facebook.com/EducationUSA.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twitter.com/EACKyi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287280" y="3465360"/>
            <a:ext cx="867744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4" descr="edUSA Logo-Big"/>
          <p:cNvPicPr/>
          <p:nvPr/>
        </p:nvPicPr>
        <p:blipFill>
          <a:blip r:embed="rId1"/>
          <a:stretch/>
        </p:blipFill>
        <p:spPr>
          <a:xfrm>
            <a:off x="6948360" y="368280"/>
            <a:ext cx="144000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000" spc="-1" strike="noStrike">
                <a:solidFill>
                  <a:srgbClr val="cc0000"/>
                </a:solidFill>
                <a:latin typeface="Verdana"/>
              </a:rPr>
              <a:t>Заходи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EducationUS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1150920" y="1557360"/>
            <a:ext cx="752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ї щодо процесу вступу до університеті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інари щодо написання ессе та резю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ї американських університе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ї програм уряду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ін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ні ярм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eic"/>
          <p:cNvPicPr/>
          <p:nvPr/>
        </p:nvPicPr>
        <p:blipFill>
          <a:blip r:embed="rId1"/>
          <a:stretch/>
        </p:blipFill>
        <p:spPr>
          <a:xfrm>
            <a:off x="7236000" y="0"/>
            <a:ext cx="166680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0021"/>
                </a:solidFill>
                <a:latin typeface="Calibri"/>
              </a:rPr>
              <a:t>Програми професійного розвитк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8001000" y="4876560"/>
            <a:ext cx="0" cy="152280"/>
          </a:xfrm>
          <a:prstGeom prst="line">
            <a:avLst/>
          </a:prstGeom>
          <a:ln w="76320">
            <a:solidFill>
              <a:srgbClr val="50c09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7924680" y="3428640"/>
            <a:ext cx="0" cy="3049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9"/>
          <p:cNvGrpSpPr/>
          <p:nvPr/>
        </p:nvGrpSpPr>
        <p:grpSpPr>
          <a:xfrm>
            <a:off x="685800" y="2403360"/>
            <a:ext cx="8305920" cy="3657240"/>
            <a:chOff x="685800" y="2403360"/>
            <a:chExt cx="8305920" cy="3657240"/>
          </a:xfrm>
        </p:grpSpPr>
        <p:grpSp>
          <p:nvGrpSpPr>
            <p:cNvPr id="117" name="Group 14"/>
            <p:cNvGrpSpPr/>
            <p:nvPr/>
          </p:nvGrpSpPr>
          <p:grpSpPr>
            <a:xfrm>
              <a:off x="685800" y="5029200"/>
              <a:ext cx="8153280" cy="1031400"/>
              <a:chOff x="685800" y="5029200"/>
              <a:chExt cx="8153280" cy="1031400"/>
            </a:xfrm>
          </p:grpSpPr>
          <p:sp>
            <p:nvSpPr>
              <p:cNvPr id="118" name="AutoShape 15"/>
              <p:cNvSpPr/>
              <p:nvPr/>
            </p:nvSpPr>
            <p:spPr>
              <a:xfrm>
                <a:off x="685800" y="5029200"/>
                <a:ext cx="8153280" cy="958320"/>
              </a:xfrm>
              <a:prstGeom prst="roundRect">
                <a:avLst>
                  <a:gd name="adj" fmla="val 16667"/>
                </a:avLst>
              </a:prstGeom>
              <a:solidFill>
                <a:srgbClr val="b0eebd"/>
              </a:solidFill>
              <a:ln w="9360">
                <a:solidFill>
                  <a:srgbClr val="50c0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16" descr="emb_eagle1"/>
              <p:cNvPicPr/>
              <p:nvPr/>
            </p:nvPicPr>
            <p:blipFill>
              <a:blip r:embed="rId1"/>
              <a:stretch/>
            </p:blipFill>
            <p:spPr>
              <a:xfrm>
                <a:off x="808920" y="5109120"/>
                <a:ext cx="1029600" cy="95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WordArt 17"/>
              <p:cNvSpPr txBox="1"/>
              <p:nvPr/>
            </p:nvSpPr>
            <p:spPr>
              <a:xfrm>
                <a:off x="1973160" y="5029200"/>
                <a:ext cx="6592320" cy="87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Відділ преси, освіти та культури Посольства США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Public Affairs Section, US Embassy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21" name="Text Box 29"/>
            <p:cNvSpPr/>
            <p:nvPr/>
          </p:nvSpPr>
          <p:spPr>
            <a:xfrm>
              <a:off x="7010640" y="242208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Fulbright Faculty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31"/>
            <p:cNvGrpSpPr/>
            <p:nvPr/>
          </p:nvGrpSpPr>
          <p:grpSpPr>
            <a:xfrm>
              <a:off x="6934320" y="3657600"/>
              <a:ext cx="2057400" cy="1218960"/>
              <a:chOff x="6934320" y="3657600"/>
              <a:chExt cx="2057400" cy="1218960"/>
            </a:xfrm>
          </p:grpSpPr>
          <p:sp>
            <p:nvSpPr>
              <p:cNvPr id="123" name="Oval 19"/>
              <p:cNvSpPr/>
              <p:nvPr/>
            </p:nvSpPr>
            <p:spPr>
              <a:xfrm>
                <a:off x="6934320" y="3657600"/>
                <a:ext cx="2057400" cy="1218960"/>
              </a:xfrm>
              <a:prstGeom prst="ellipse">
                <a:avLst/>
              </a:prstGeom>
              <a:solidFill>
                <a:srgbClr val="ff99cc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0"/>
              <p:cNvSpPr/>
              <p:nvPr/>
            </p:nvSpPr>
            <p:spPr>
              <a:xfrm>
                <a:off x="7238880" y="3733560"/>
                <a:ext cx="16002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Calibri"/>
                  </a:rPr>
                  <a:t>Офіс Програм ім. Фулбрай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32"/>
            <p:cNvSpPr/>
            <p:nvPr/>
          </p:nvSpPr>
          <p:spPr>
            <a:xfrm>
              <a:off x="76176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ubert Humphrey Fellow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281952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merican Studies Instit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4953240" y="2403360"/>
              <a:ext cx="1752480" cy="10087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wards for Excellence in Teach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7"/>
            <p:cNvSpPr/>
            <p:nvPr/>
          </p:nvSpPr>
          <p:spPr>
            <a:xfrm flipV="1">
              <a:off x="160020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8"/>
            <p:cNvSpPr/>
            <p:nvPr/>
          </p:nvSpPr>
          <p:spPr>
            <a:xfrm flipV="1">
              <a:off x="357192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9"/>
            <p:cNvSpPr/>
            <p:nvPr/>
          </p:nvSpPr>
          <p:spPr>
            <a:xfrm flipV="1">
              <a:off x="5705640" y="3428280"/>
              <a:ext cx="0" cy="16002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1214280"/>
            <a:ext cx="81201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libri"/>
              </a:rPr>
              <a:t>Програми з отриманням ступеня Магістра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*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8001000" y="4876560"/>
            <a:ext cx="0" cy="152280"/>
          </a:xfrm>
          <a:prstGeom prst="line">
            <a:avLst/>
          </a:prstGeom>
          <a:ln w="76320">
            <a:solidFill>
              <a:srgbClr val="50c09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755640" y="2276640"/>
            <a:ext cx="8152920" cy="3783960"/>
            <a:chOff x="755640" y="2276640"/>
            <a:chExt cx="8152920" cy="3783960"/>
          </a:xfrm>
        </p:grpSpPr>
        <p:grpSp>
          <p:nvGrpSpPr>
            <p:cNvPr id="134" name="Group 5"/>
            <p:cNvGrpSpPr/>
            <p:nvPr/>
          </p:nvGrpSpPr>
          <p:grpSpPr>
            <a:xfrm>
              <a:off x="755640" y="2276640"/>
              <a:ext cx="8152920" cy="3783960"/>
              <a:chOff x="755640" y="2276640"/>
              <a:chExt cx="8152920" cy="3783960"/>
            </a:xfrm>
          </p:grpSpPr>
          <p:sp>
            <p:nvSpPr>
              <p:cNvPr id="135" name="Line 9"/>
              <p:cNvSpPr/>
              <p:nvPr/>
            </p:nvSpPr>
            <p:spPr>
              <a:xfrm flipV="1">
                <a:off x="5578560" y="3068280"/>
                <a:ext cx="0" cy="80820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Group 14"/>
              <p:cNvGrpSpPr/>
              <p:nvPr/>
            </p:nvGrpSpPr>
            <p:grpSpPr>
              <a:xfrm>
                <a:off x="755640" y="5029200"/>
                <a:ext cx="8152920" cy="1031400"/>
                <a:chOff x="755640" y="5029200"/>
                <a:chExt cx="8152920" cy="1031400"/>
              </a:xfrm>
            </p:grpSpPr>
            <p:sp>
              <p:nvSpPr>
                <p:cNvPr id="137" name="AutoShape 15"/>
                <p:cNvSpPr/>
                <p:nvPr/>
              </p:nvSpPr>
              <p:spPr>
                <a:xfrm>
                  <a:off x="755640" y="5029200"/>
                  <a:ext cx="8152920" cy="958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0eebd"/>
                </a:solidFill>
                <a:ln w="9360">
                  <a:solidFill>
                    <a:srgbClr val="50c09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8" name="Picture 16" descr="emb_eagle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78760" y="5109120"/>
                  <a:ext cx="1029600" cy="95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WordArt 17"/>
                <p:cNvSpPr txBox="1"/>
                <p:nvPr/>
              </p:nvSpPr>
              <p:spPr>
                <a:xfrm>
                  <a:off x="2043000" y="5029200"/>
                  <a:ext cx="6591960" cy="87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Відділ преси, освіти та культури Посольства США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Public Affairs Section, US Embassy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140" name="Text Box 29"/>
              <p:cNvSpPr/>
              <p:nvPr/>
            </p:nvSpPr>
            <p:spPr>
              <a:xfrm>
                <a:off x="1617480" y="2276640"/>
                <a:ext cx="2468880" cy="703800"/>
              </a:xfrm>
              <a:prstGeom prst="rect">
                <a:avLst/>
              </a:prstGeom>
              <a:solidFill>
                <a:srgbClr val="cc99ff"/>
              </a:solidFill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Fulbright Graduate Student Progra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70200" y="3645000"/>
                <a:ext cx="3214440" cy="1218960"/>
                <a:chOff x="2770200" y="3645000"/>
                <a:chExt cx="3214440" cy="1218960"/>
              </a:xfrm>
            </p:grpSpPr>
            <p:sp>
              <p:nvSpPr>
                <p:cNvPr id="142" name="Oval 19"/>
                <p:cNvSpPr/>
                <p:nvPr/>
              </p:nvSpPr>
              <p:spPr>
                <a:xfrm>
                  <a:off x="2770200" y="3645000"/>
                  <a:ext cx="3214440" cy="1218960"/>
                </a:xfrm>
                <a:prstGeom prst="ellipse">
                  <a:avLst/>
                </a:prstGeom>
                <a:solidFill>
                  <a:srgbClr val="ff99cc"/>
                </a:solidFill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30"/>
                <p:cNvSpPr/>
                <p:nvPr/>
              </p:nvSpPr>
              <p:spPr>
                <a:xfrm>
                  <a:off x="3132360" y="3860640"/>
                  <a:ext cx="25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>
                      <a:solidFill>
                        <a:srgbClr val="000000"/>
                      </a:solidFill>
                      <a:latin typeface="Calibri"/>
                    </a:rPr>
                    <a:t>Офіс Програм ім. Фулбрайт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9"/>
              <p:cNvSpPr/>
              <p:nvPr/>
            </p:nvSpPr>
            <p:spPr>
              <a:xfrm>
                <a:off x="4857840" y="2276640"/>
                <a:ext cx="2879640" cy="764280"/>
              </a:xfrm>
              <a:prstGeom prst="rect">
                <a:avLst/>
              </a:prstGeom>
              <a:solidFill>
                <a:srgbClr val="cc99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alibri"/>
                  </a:rPr>
                  <a:t>Fulbright Science and Technology Award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 flipV="1">
                <a:off x="3273480" y="2997000"/>
                <a:ext cx="0" cy="78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9"/>
            <p:cNvSpPr/>
            <p:nvPr/>
          </p:nvSpPr>
          <p:spPr>
            <a:xfrm flipV="1">
              <a:off x="4356000" y="4796280"/>
              <a:ext cx="0" cy="23148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Arial"/>
              </a:rPr>
              <a:t>Типові вимоги до учасників про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777240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омадянство Украї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ільне володіння англійською мов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явність певного рівня освіт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ідповідність віковим обмеженням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рнення в Україну на 2 роки піс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ершення терміну гран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льні особисті відомост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т/ ессе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ійні ли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ти: документи про освіту із детальними додатками / вит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*Резю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*Підтвердження володіння англійською мовою на певному рів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Типові вимоги до пакету документ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ністю ф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інансуються Бюро у справах освіти та культури Державного департаменту СШ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, US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дійснюються Посольством США або контракторами (в Україні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EX, American Councils, Fulbright Office/IIE, Harmony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очний відбір учасників здійснюється у Вашингто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Calibri"/>
              </a:rPr>
              <a:t>Типові характеристики про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6:07:00Z</dcterms:created>
  <dc:creator>TernovskaV</dc:creator>
  <dc:description/>
  <dc:language>en-US</dc:language>
  <cp:lastModifiedBy>pben</cp:lastModifiedBy>
  <dcterms:modified xsi:type="dcterms:W3CDTF">2013-04-03T09:05:39Z</dcterms:modified>
  <cp:revision>21</cp:revision>
  <dc:subject/>
  <dc:title>Програми Уряду США  в Україні</dc:title>
</cp:coreProperties>
</file>