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288-A472-46BF-A0DD-F9CB6E7D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61C-1F80-4CE9-A4FB-F46064D4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04F-8307-411D-A408-153D977B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55B-B352-4B78-88C6-529C0D47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D858-ED39-4275-A4B5-CA1A6F26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0A9A-B5C9-475F-8ACB-D8FAACAB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2B42-8D97-42BF-AC0E-7BDE9B4B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5B75-47B3-4676-9F5C-388C7F3A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2926-C838-4939-B6FD-11BFD24C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E872-A903-44F7-BC09-0544B5FC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D0DA-2342-4BAD-B3EA-D85CEF9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4FC-1B9F-4831-BF0E-ED76EA68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E785-686C-49C6-A091-E05B9EF7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C0BD-D0E0-476F-9F87-1079B0B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38EB-496D-45DD-9719-07D46CE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DA3D-7DD7-4DFE-B134-0FB77F31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0615-C222-480F-A80A-34BFD296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EBD-A72B-4155-BEA7-5ECDD48A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2E1-2D93-4F6B-8CBB-A312305F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F90-B3BF-48D9-984D-612596D1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7BE-331D-4B50-BC3C-FDBDA1FD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669-3EE5-41DF-B900-7662D3C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E9A-71D4-4D3B-9B41-8A03238C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BAB-79A7-4C61-BFC2-3058453B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ABED-6A47-4C2C-A75A-6CB9F6753B2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F723-910A-49F8-8418-360D1AB7902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 ЧЁМ ОСНОВЫВАЮТСЯ НАШИ АМБИЦИИ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Степанова Елена Александровна,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к.э.н., доцент ДонНТУ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еминар «Совершенствование преподавательского мастерства»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Киев 1апреля 2005г.</a:t>
            </a:r>
            <a:br>
              <a:rPr sz="1600"/>
            </a:b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Мифы и стереотип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ше образование - лучшее в мир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лог успеха – государственный протекционизм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предпринимательство» недостойно профессора-ученого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ысокий престиж профессии преподавател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УЗ сегодн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ратеги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исполнение формальных обязательст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увеличение доход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блем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адаптация к спрос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инвестиции в академическое развитие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алог с бизнес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плата за образование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индивидуальные программ ы подготовк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рейтинг ВУЗа и трудоустройство выпускников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облемы высшего экономического образовани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2303640"/>
          <a:ext cx="8135640" cy="33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303640"/>
                    <a:ext cx="813564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едставление о конкурентах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93080" cy="41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00000" y="2276640"/>
          <a:ext cx="7704360" cy="346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276640"/>
                    <a:ext cx="770436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ичины инертности бизнес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060640"/>
          <a:ext cx="6985080" cy="38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2060640"/>
                    <a:ext cx="69850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ачество высшего образования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держание образовани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менение ИК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фессиональный уровень преподавател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рганизация программ специализаци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учная деятельность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нновационные методы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атематические модели и игр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тернет, электронная почта в проведении дискусс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электронные учебные пособи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лассические литературные тексты как кейс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ортодоксальные подходы к решению задач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спользование новых технологий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5796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2279520"/>
          <a:ext cx="7920000" cy="381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279520"/>
                    <a:ext cx="7920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еподаватель в информационном обществе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ритет качества и результативност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вершенствование методического мастер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одернизации системы профессиональных знан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нтрапренёрств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34920" y="228600"/>
            <a:ext cx="715644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еали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тивац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денежный доход - ниже социально приемлемого уровн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внешний социальный статус - «новые бедные»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«академическое вознаграждение» - обесценен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следств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репродуктивная деятель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нецелесообразность самоинвестиров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формализация процесса обучени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неблагоприятный отбор преподавателе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ысшая школа 2004г.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2565360"/>
            <a:ext cx="7848360" cy="302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47 ВУЗов (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V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.а), среди них 114 - частных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,3млн. студентов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0 тыс. иностранных студент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редний возраст профессоров - 64, доцентов - 5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10 ВУЗов, 120 тыс. студентов - кредитно-модульное обучен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67 тыс. компьютерных мес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7 лицензий - результат научных исследова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облемы занятости и мотиваци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930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92360" y="1989000"/>
          <a:ext cx="6913440" cy="439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989000"/>
                    <a:ext cx="691344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ритерии оценки преподавателей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бразование (не менее высшего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личие/отсутствие ученой степен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личие/отсутствие ученого звани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лительность трудового научно-педагогического стажа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34920" y="228600"/>
            <a:ext cx="715644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рубежный подход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мма достигнутог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ученая степен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педагогический стаж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список научных публикац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ремление к совершенствовани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ичностный рос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рспективность научной деятельн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нение специализированного комите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рмальный и неформальный рейтинг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Образование – шанс для Украин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нкурентоспособность стран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новационное развитие экономик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вроинтеграци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гиональное развити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циальная функци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учная коммуникаци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9200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Университеты должны сыграть важнейшую роль в достижении цели, поставленной ЕС - построении самой конкурентоспособной, основанной на интеллектуальных ресурсах экономики в мире. Однако европейские вузы недофинансируются, отличаются плохой организацией, чрезмерной централизацией и страдают от жестких политических ограничений. Европейские университеты остро нуждаются в реформировании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Ричард Ламберт, член комитета Английского банка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иоритеты 2005г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вропейский уровень качества и доступност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уховная ориентированность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емократизаци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счастливый учитель - счастливый ученик»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витие общества на основе новых знаний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Новая информационная эр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784548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глобализаци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зменение отраслевых структур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формационная революци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вышение ожиданий потребителей   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Будущее не где-то вдали от нас. Оно уже наступило. К сожалению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оно неравномерно распределено среди компаний, отраслей и стран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Ф. Котлер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Новая экономик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витые стран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доля рынка труда - 20-25 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сфера услуг - до 70 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источник роста производительности – ИК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краи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доля образования в ВВП - 4,8 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ользователи сети 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Интернет -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7% 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населения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рейтинг конкурентоспособности (GCI) -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86-е  место среди 104-х стран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ызовы для образовани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784548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массификация» высшего образовани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прерывность (life-long educ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рмирование новых компетенц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фессионализаци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то должен оплачивать счета высшего образования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82316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авительство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ЕС - 1,1% ВВ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США - 2,3 % ВВП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Украина - обучение 39% студент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требитель университетской продукци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от защищенной формы феодализма к хищническому капитализму»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М. Рай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кадемический капитализм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едмет конкуренци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привлечение студентов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рыночно ориентированные исследовани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исследовательские гранты и контракт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партнерство с бизнесом и правительств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трансфер технологий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нкуренты классического университета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внутрифирменные образовательные структур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- виртуальные университет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дпринимательский университет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риентация на потребител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новации, экономическая эффектность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пора на собственные возможност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аланс выгоды и риска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тевая структур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главная ценность – компетентность персонала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елегировании прав и ответственности исполнителям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12:57:45Z</dcterms:created>
  <dc:creator>Мастер</dc:creator>
  <dc:description/>
  <dc:language>en-US</dc:language>
  <cp:lastModifiedBy>Мастер</cp:lastModifiedBy>
  <dcterms:modified xsi:type="dcterms:W3CDTF">2005-03-27T23:31:58Z</dcterms:modified>
  <cp:revision>7</cp:revision>
  <dc:subject/>
  <dc:title>НА ЧЁМ ОСНОВЫВАЮТСЯ НАШИ АМБИЦИИ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