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7CB-3849-467D-B221-A6253412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924-94E7-4354-B8BA-81F442E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5C9-EC8A-46C0-8DB2-0DDE1A22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87C-B178-4628-B2D1-8EC2A1C5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A64-1EF6-4579-ADC1-978209A2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11CD-48F2-47FF-9CA6-98AE847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C9F0-BBA9-47D4-82B5-1902D31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84AC-6138-4AD6-95EE-9C1DA717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3014-D1EE-48E7-B20B-726CFAD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79C-B5DA-4794-8451-1A6CE73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8EC1-6D14-497D-BE48-3BD4F62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76D-BAE0-404D-B8CB-6557C1F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6063-C65D-4DC3-84C0-2978FC5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B8A-C624-4E4A-971C-5145D70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459-1AEB-4F86-9E2A-DF17E56A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793E-72D9-4FB7-8ECF-46933C5B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2D03-8F24-43D9-8F5B-C1953E4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96F-6723-470A-8608-25AC450D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D84-B5D5-4C40-A165-0979C97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DB6-39D0-4118-BEE9-35FC343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715-D1CE-4ACA-8173-3801C3B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942-71CE-4443-B83D-AD2CA53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FC6-3B4A-499C-AE4F-6E03E50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9D4-6484-4E71-9787-3571E7E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B4E9-334E-42AF-AA38-187C412DE8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9F19-6354-4875-8B6C-D5B76CBEF5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УПРАВЛЕНИЕ УСТОЙЧИВЫМ РАЗВИТИЕМ: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ОНЦЕПТУАЛЬНЫЕ ОСНОВЫ,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ОБЛЕМЫ, ЗАДАЧ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3280" y="3886200"/>
            <a:ext cx="63691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епанова Елена Александров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э.н., доцент ДонН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дународная конферен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ологический менеджмент к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ляющая часть устойчивого развити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нец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-23 октября 200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устойчив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ституциональ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прозрачные государственные институ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уп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совершенное законод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иворечивая система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ческ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адекватные мет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таревшие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чная информирова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Национальная система управления состоянием ОС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218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циональная стратегия и план её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раслевые планы и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лого-экономическая интегр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четание административных и экономических инстр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тмосфера согласия и партнё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кологический менеджмент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2184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отвращение загрязн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циональное использование природных ресур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имулирование предпринима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ение сферы ответств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ы устойчивого развития компан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ижение конкурентного пре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результативности упра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ёт интересов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тейкхолдер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stakeholder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сихологический климат реформирования управлен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общее экологическое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уляризация устойчивого разви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ка неправительственных  и государственных природоохра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оритетность научно-технических решений в области ресурсосбере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едрение новых этических нор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амоорганизация управл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314172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ентив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ектировка с учётом прогн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егирование полномочий нижним уровням упра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рганы по координации устойчивого развит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етенц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гноз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знач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грация осуществления национальных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иональных, локальных програм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ение сотрудничеств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н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91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Мы упорно стремимся ко все большему экономическому росту, видя в нем залог улучшения жизни, но население при этом не обязательно становится счастливее. А если учесть, что рост ВВП сопровождается разрушением окружающей среды, то следует задуматься, в наших ли интересах развитие такой цено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Британская комиссия по устойчивому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Новый порядок» взаимодействия с природой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7979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логические огранич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щение ресурсного потенци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черпание ассимиляционн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ение ценностных установ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вые потребительские стереот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ребность в экологическо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онцепция устойчивого развит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оритет гуманистических ценностей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е партнер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ланс экономических и экологических  интере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вентивные и упреждающие м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секторальное сотрудниче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интересованность общества, бизнеса, прав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аптация систем жизнеобеспечения к природным структу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Экономика роста или стабильная экономика?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793116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енное увеличение – максимизация стоим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енное улучшение – максимизация жизни всех биологических ви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.Дей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Новая экономик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3068640"/>
            <a:ext cx="800244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нов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уктурные пре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оритет качественных показ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Теор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923920"/>
            <a:ext cx="8147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логическая экономи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ий менеджмента качеств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Q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логический менеджмен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нституализац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82184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ация Рио - 199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ация тысячелетия -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тегия  устойчивого развития ЕС - 200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Шляхом європейської інтеграції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тратегія сталого розвитку України (проект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йтинг Украи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915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место в мире по выбросам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О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ливно-сырьевой сектор – половина промышленного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ресурсоёмких и энергоёмких технологий – 40% эконом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вень инновационной активности -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2,7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ировой экспорт высокотехнологичной продукции – 0,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асходы на науку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4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ойчивость экономики Украи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2184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0 место среди 122 стран (Даво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1 место среди 146 ст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семирный фонд дикой природ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8 место среди 180 ст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берт  Прескот-Але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4:08:57Z</dcterms:created>
  <dc:creator>Мастер</dc:creator>
  <dc:description/>
  <dc:language>en-US</dc:language>
  <cp:lastModifiedBy>Мастер</cp:lastModifiedBy>
  <dcterms:modified xsi:type="dcterms:W3CDTF">2004-10-21T20:55:05Z</dcterms:modified>
  <cp:revision>12</cp:revision>
  <dc:subject/>
  <dc:title>Слайд 1</dc:title>
</cp:coreProperties>
</file>