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74400" y="1092240"/>
            <a:ext cx="47941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52640" y="1092240"/>
            <a:ext cx="524484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52640" y="1092240"/>
            <a:ext cx="524484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FF4-C811-4B2C-91F9-EFAD366B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EBA-ACAD-499F-8D2D-0448A910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C56-2C88-48AE-9818-F999252E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3CC-CA35-4E77-9364-72C778A6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83B-598D-4710-B2D0-4A9A4BAA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C0F-74D7-45D1-8103-E892B351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9A5-C43F-4A24-9F13-C454637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9C2-0955-44E7-9150-F8BE2AB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C14-8186-4241-9397-54D15FD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2D8-15CC-4B6F-800D-C501138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2EA-4247-4A54-8E9B-09594B7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212-B02A-4D9F-99EC-CB9AA088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19784-5FA3-4728-A363-A7B825DDC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0" y="612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4380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8900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1240" y="1596960"/>
            <a:ext cx="86011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54A7E-BEAF-48BA-885F-A7F2DC89750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64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-1447920"/>
            <a:ext cx="8607600" cy="54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1476000"/>
            <a:ext cx="878832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просы выбора модели научно-информационного центра НТБ ДонНТУ в условиях глобальной информатизации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b6b"/>
                </a:solidFill>
                <a:latin typeface="Times New Roman"/>
              </a:rPr>
              <a:t>Теоретический анализ последних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b6b"/>
                </a:solidFill>
                <a:latin typeface="Times New Roman"/>
              </a:rPr>
              <a:t>исследований и публикаций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98a8a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198a8a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5c8526"/>
                </a:solidFill>
                <a:latin typeface="Times New Roman"/>
              </a:rPr>
              <a:t>Готовцева Любовь Сергеевна</a:t>
            </a:r>
            <a:endParaRPr b="0" lang="en-US" sz="3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198a8a"/>
                </a:solidFill>
                <a:latin typeface="Times New Roman"/>
              </a:rPr>
              <a:t>                                </a:t>
            </a:r>
            <a:r>
              <a:rPr b="1" lang="en-US" sz="3000" spc="-1" strike="noStrike">
                <a:solidFill>
                  <a:srgbClr val="198a8a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666600"/>
                </a:solidFill>
                <a:latin typeface="Times New Roman"/>
              </a:rPr>
              <a:t>Главный библиотекарь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666600"/>
                </a:solidFill>
                <a:latin typeface="Times New Roman"/>
              </a:rPr>
              <a:t>научно-методического отдела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1440" y="115920"/>
            <a:ext cx="9036000" cy="1295280"/>
            <a:chOff x="541440" y="115920"/>
            <a:chExt cx="9036000" cy="1295280"/>
          </a:xfrm>
        </p:grpSpPr>
        <p:sp>
          <p:nvSpPr>
            <p:cNvPr id="179" name=""/>
            <p:cNvSpPr/>
            <p:nvPr/>
          </p:nvSpPr>
          <p:spPr>
            <a:xfrm>
              <a:off x="1008000" y="105408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8000" y="11253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08000" y="119700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4144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320508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60360" y="1582560"/>
            <a:ext cx="9361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4c1900"/>
                </a:solidFill>
                <a:latin typeface="Times New Roman"/>
              </a:rPr>
              <a:t>Задача библиотеки вуза —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4c1900"/>
                </a:solidFill>
                <a:latin typeface="Times New Roman"/>
              </a:rPr>
              <a:t>управление процессами функционирования информационной среды учебного за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координация документообо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создание информационного ресур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организация свободного доступа к не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обеспечение его сохра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формирование условий представления   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информационных услу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 развитие информационной культуры       потребител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31640" y="108000"/>
            <a:ext cx="9036000" cy="1295280"/>
            <a:chOff x="431640" y="108000"/>
            <a:chExt cx="9036000" cy="1295280"/>
          </a:xfrm>
        </p:grpSpPr>
        <p:sp>
          <p:nvSpPr>
            <p:cNvPr id="186" name=""/>
            <p:cNvSpPr/>
            <p:nvPr/>
          </p:nvSpPr>
          <p:spPr>
            <a:xfrm>
              <a:off x="898200" y="104616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8200" y="11174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98200" y="118908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31640" y="10800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3095280" y="25236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41240" y="1403280"/>
            <a:ext cx="86076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1900"/>
                </a:solidFill>
                <a:latin typeface="Times New Roman"/>
              </a:rPr>
              <a:t>Этапы внед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1900"/>
                </a:solidFill>
                <a:latin typeface="Times New Roman"/>
              </a:rPr>
              <a:t>инновационных технолог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b6b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6b6b"/>
                </a:solidFill>
                <a:latin typeface="Times New Roman"/>
              </a:rPr>
              <a:t>Модерн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b6b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6b6b"/>
                </a:solidFill>
                <a:latin typeface="Times New Roman"/>
              </a:rPr>
              <a:t>Иннов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b6b"/>
                </a:solidFill>
                <a:latin typeface="Times New Roman"/>
              </a:rPr>
              <a:t>3. Транс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76360" y="181080"/>
            <a:ext cx="9036000" cy="1295280"/>
            <a:chOff x="576360" y="181080"/>
            <a:chExt cx="9036000" cy="1295280"/>
          </a:xfrm>
        </p:grpSpPr>
        <p:sp>
          <p:nvSpPr>
            <p:cNvPr id="193" name=""/>
            <p:cNvSpPr/>
            <p:nvPr/>
          </p:nvSpPr>
          <p:spPr>
            <a:xfrm>
              <a:off x="1042920" y="111924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2920" y="119052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2920" y="12621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576360" y="18108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3240000" y="32544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41240" y="1476360"/>
            <a:ext cx="86076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c1900"/>
                </a:solidFill>
                <a:latin typeface="Times New Roman"/>
              </a:rPr>
              <a:t>Существующие модели библиотечно-информационных цен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1. Библиотека-центр информационн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2. Библиотека- информационный ресурс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3. Библиотека — медиа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4. Библиотека — информационный медиа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5. Библиотека — инфополюс, научно-образовательный информацион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6. Библиотека — информационный интеллектуаль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8360" y="181080"/>
            <a:ext cx="9036000" cy="1295280"/>
            <a:chOff x="468360" y="181080"/>
            <a:chExt cx="9036000" cy="1295280"/>
          </a:xfrm>
        </p:grpSpPr>
        <p:sp>
          <p:nvSpPr>
            <p:cNvPr id="200" name=""/>
            <p:cNvSpPr/>
            <p:nvPr/>
          </p:nvSpPr>
          <p:spPr>
            <a:xfrm>
              <a:off x="934920" y="111924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4920" y="119052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4920" y="12621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468360" y="18108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3132000" y="32544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92000" y="1547640"/>
            <a:ext cx="8607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4c19"/>
                </a:solidFill>
                <a:latin typeface="Times New Roman"/>
              </a:rPr>
              <a:t>Координаци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4c1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4c19"/>
                </a:solidFill>
                <a:latin typeface="Times New Roman"/>
              </a:rPr>
              <a:t>БИЦ ДонН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Центральная научно-техническая библиотека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Минуглеп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2. Областная научная библиотека им. Н.К.Круп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3.НИЧ Дон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4.</a:t>
            </a:r>
            <a:r>
              <a:rPr b="1" lang="uk-UA" sz="2800" spc="-1" strike="noStrike">
                <a:solidFill>
                  <a:srgbClr val="00808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тдел интеллектуальной собственности и патентно-лицензионной работы </a:t>
            </a:r>
            <a:r>
              <a:rPr b="1" lang="uk-UA" sz="2800" spc="-1" strike="noStrike">
                <a:solidFill>
                  <a:srgbClr val="00808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ри НИЧ Дон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41440" y="252360"/>
            <a:ext cx="9036000" cy="1295280"/>
            <a:chOff x="541440" y="252360"/>
            <a:chExt cx="9036000" cy="1295280"/>
          </a:xfrm>
        </p:grpSpPr>
        <p:sp>
          <p:nvSpPr>
            <p:cNvPr id="207" name=""/>
            <p:cNvSpPr/>
            <p:nvPr/>
          </p:nvSpPr>
          <p:spPr>
            <a:xfrm>
              <a:off x="1008000" y="119052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8000" y="126180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8000" y="13334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41440" y="25236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 txBox="1"/>
            <p:nvPr/>
          </p:nvSpPr>
          <p:spPr>
            <a:xfrm>
              <a:off x="3205080" y="39672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19280" y="1116000"/>
            <a:ext cx="86072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c1900"/>
                </a:solidFill>
                <a:latin typeface="Times New Roman"/>
              </a:rPr>
              <a:t>Процесс создания единого информационно-ресурсного центра требует решения следующих вопро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1.Организацио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2.Технолог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3.Ресур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4.Финансово-эконо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5.Кадр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6720" y="252360"/>
            <a:ext cx="9036000" cy="1295280"/>
            <a:chOff x="396720" y="252360"/>
            <a:chExt cx="9036000" cy="1295280"/>
          </a:xfrm>
        </p:grpSpPr>
        <p:sp>
          <p:nvSpPr>
            <p:cNvPr id="214" name=""/>
            <p:cNvSpPr/>
            <p:nvPr/>
          </p:nvSpPr>
          <p:spPr>
            <a:xfrm>
              <a:off x="863280" y="119052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3280" y="126180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3280" y="13334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96720" y="25236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 txBox="1"/>
            <p:nvPr/>
          </p:nvSpPr>
          <p:spPr>
            <a:xfrm>
              <a:off x="3060360" y="39672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06:43Z</dcterms:created>
  <dc:creator/>
  <dc:description/>
  <dc:language>en-US</dc:language>
  <cp:lastModifiedBy>Библиотека</cp:lastModifiedBy>
  <dcterms:modified xsi:type="dcterms:W3CDTF">2010-10-20T06:37:14Z</dcterms:modified>
  <cp:revision>23</cp:revision>
  <dc:subject/>
  <dc:title>       </dc:title>
</cp:coreProperties>
</file>