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959-5547-4D8B-AC47-BFEB094D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E6A-F34C-43DA-B63B-863940C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8D5-FC29-4173-AC00-FC83734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CC7-F140-41DF-A65C-B629E14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7BD8-41E6-4DB9-AABA-E565687D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D51-9273-4575-9B93-EC4295BF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889-5004-45A6-9C50-31113D3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11FD-3945-448E-8CCC-A24BE009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0A4-8EE9-4CB9-88FA-8E59345A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8409-8359-4E61-A144-23D1258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B082-2F08-49E1-BBA6-8C9F586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A78-BA82-4E0E-977D-269433A0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99B-FC34-456C-B220-AFDF87F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564-1B9C-4E27-857A-B8694FF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B1B-394E-4140-8AC9-092BDA6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171-7A61-4C3A-96D3-F227839B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ACA4-2F72-4763-8D23-94BAB82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C4C-141E-4476-BFC0-5C718FCA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FD9-81B8-40EF-B28C-5F6B5AD9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3AE-857C-44BF-BCDA-904C9456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C0D-6027-4255-94B3-55C8C27B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15B-8F8B-42C8-A362-6504B0F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ADE-E4E5-48A8-87DF-9BDD6E0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893-A90A-4E9A-8BA4-C58C21F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6DD-768D-4457-A56B-912EC26871F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56480" y="5979960"/>
            <a:ext cx="1487520" cy="87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E77-E9B0-423C-A7A8-A60DB922D41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3933720"/>
            <a:ext cx="2171520" cy="128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ericancouncils.org.ua/" TargetMode="External"/><Relationship Id="rId2" Type="http://schemas.openxmlformats.org/officeDocument/2006/relationships/hyperlink" Target="http://www.americancouncils.org.ua/" TargetMode="External"/><Relationship Id="rId3" Type="http://schemas.openxmlformats.org/officeDocument/2006/relationships/hyperlink" Target="http://www.americancouncils.org.ua/" TargetMode="External"/><Relationship Id="rId4" Type="http://schemas.openxmlformats.org/officeDocument/2006/relationships/hyperlink" Target="http://www.americancouncils.org.ua/" TargetMode="External"/><Relationship Id="rId5" Type="http://schemas.openxmlformats.org/officeDocument/2006/relationships/hyperlink" Target="http://www.americancouncils.org.ua/" TargetMode="External"/><Relationship Id="rId6" Type="http://schemas.openxmlformats.org/officeDocument/2006/relationships/hyperlink" Target="http://www.americancouncils.org.ua/" TargetMode="External"/><Relationship Id="rId7" Type="http://schemas.openxmlformats.org/officeDocument/2006/relationships/hyperlink" Target="http://www.americancouncils.org.ua/" TargetMode="External"/><Relationship Id="rId8" Type="http://schemas.openxmlformats.org/officeDocument/2006/relationships/hyperlink" Target="mailto:flex@americancouncils.org.ua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mericancouncils.org.ua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198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грама обм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іну майбутніх лідерів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EX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рі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221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3716280"/>
            <a:ext cx="1942920" cy="1693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3311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000000"/>
                </a:solidFill>
                <a:uFillTx/>
                <a:latin typeface="Times New Roman"/>
              </a:rPr>
              <a:t>Третій тур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відбувається через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-6 тижнів після проведення другого туру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стандартизований тест з англійської мови, який виявляє рівень знань мов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заповнення анке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написання двох невеликих творів англійською мовою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індивідуальна співбесіда англійською та рідною мовам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стуванн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551664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30064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написання творі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300640"/>
            <a:ext cx="4535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третій тур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робота у групі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Заключний етап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820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Всі матаріали тестування розглядаються міжнародною незалежною комісією у Вашингтоні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та альтернативні кандидати програми будуть визначені у квітні 201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мають пройти підготовчу програму перед віїздом до СШ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програми, вирушать до США у серпні 201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, та повернуться у травні-червні 20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14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Стипендія програми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LEX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забезпечу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3516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внутрішній та міжнародний проїзд в обидва кінці (від дому до місця проживання в США і зворотній шлях)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кишенькові гроші на кожен місяць, що допомагають учневі брати участь у суспільному житті та купувати предмети індивідуального користування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розміщення в американській сім’ї терміном на один рік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зарахування в американську середню школу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участь у  програмній орієнтації; підготовку до в’їзду в США і до виїзду із США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організацію у США різноманітних заходів на місцевому рівні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медичне страхування, покріває лікування всіх хвароб набутих підчас програми на тереторіїї США за винятком стоматологічних витрат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292929"/>
                </a:solidFill>
                <a:uFillTx/>
                <a:latin typeface="Times New Roman"/>
              </a:rPr>
              <a:t>Як учасники програми, школярі</a:t>
            </a: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отримують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ливість ознайомитися з народом і культурою іншої країни - Сполучених Штатів Америки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опоможуть американцям краще розуміти народ та культуру своєї рідної країн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тримають можливість для особистого росту та набуття </a:t>
            </a: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самостійності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уть встановити міцні стосунки з членами приймаючих сімей, однолітками, сусідами.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292929"/>
                </a:solidFill>
                <a:uFillTx/>
                <a:latin typeface="Times New Roman"/>
              </a:rPr>
              <a:t>Переваги програми </a:t>
            </a:r>
            <a:r>
              <a:rPr b="1" lang="en-US" sz="4000" spc="-1" strike="noStrike" u="sng">
                <a:solidFill>
                  <a:srgbClr val="292929"/>
                </a:solidFill>
                <a:uFillTx/>
                <a:latin typeface="Times New Roman"/>
              </a:rPr>
              <a:t>FLEX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40719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292929"/>
                </a:solidFill>
                <a:uFillTx/>
                <a:latin typeface="Times New Roman"/>
              </a:rPr>
              <a:t>Переваги програми </a:t>
            </a:r>
            <a:r>
              <a:rPr b="1" lang="en-US" sz="4000" spc="-1" strike="noStrike" u="sng">
                <a:solidFill>
                  <a:srgbClr val="292929"/>
                </a:solidFill>
                <a:uFillTx/>
                <a:latin typeface="Times New Roman"/>
              </a:rPr>
              <a:t>FL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292929"/>
                </a:solidFill>
                <a:uFillTx/>
                <a:latin typeface="Times New Roman"/>
              </a:rPr>
              <a:t>Як випускники програми:</a:t>
            </a:r>
            <a:r>
              <a:rPr b="1" lang="uk-UA" sz="36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икористання набутків, отриманих ними підчас перебування у США в Україні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ступити у престижний університе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отримати гарну роботі де вони могли би використовувати знання та навики набуті підчас пр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o</a:t>
            </a: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грами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LE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EX Alumni –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ипускники прог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292929"/>
                </a:solidFill>
                <a:uFillTx/>
                <a:latin typeface="Times New Roman"/>
              </a:rPr>
              <a:t>Заходи, в яких випускники приймають участь:</a:t>
            </a:r>
            <a:r>
              <a:rPr b="1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олонтерська та соціальна робот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заходи для професійного розвитк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ечори Англійської мови та культур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семінари та тренінг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міжнародні конференції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різноманітні проекти у соціалних сферах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ти, в яких приймають участ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 Alumn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1825560"/>
            <a:ext cx="4610160" cy="345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227664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6376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5928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Випусники </a:t>
            </a:r>
            <a:r>
              <a:rPr b="1" lang="en-US" sz="2000" spc="-1" strike="noStrike">
                <a:solidFill>
                  <a:srgbClr val="292929"/>
                </a:solidFill>
                <a:latin typeface="Century Gothic"/>
              </a:rPr>
              <a:t>FLEX </a:t>
            </a: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відвідують дитячий дім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33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Здача крові: випусники підвищують обізнаність населення про важливість донорств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ти, в яких приймають участь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 Alum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722760" cy="2624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486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Програма збереження навколишнього середовищ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530064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4869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Пробіг заради життя: ВІЧ/СНІД</a:t>
            </a: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Ти можеш стати одним із них наступного року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3384360" cy="2976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4360" y="1844640"/>
            <a:ext cx="728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они вже навчаються у США та живуть в американських родинах. Цього року їх близьк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58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а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EX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1356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Century"/>
              </a:rPr>
              <a:t>“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Програма обміну для майбутніх лідерів” – програма культурного обміну, яка здійснюється за підтримки Бюро у справах освіти та культури Державного департаменту США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Адмініструється в Україні організацією “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American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Councils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” за підтримки Міністерства освіти і науки України.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Програма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 дає можливість українським школярам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навчатись у школі в США, проживаючи в американській сім‘ї протягом одного навчального року.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Відбір претендентів 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зд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ійснюється шляхом відкритого конкурсу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рафік проведення конкур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79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Інформацію щодо проведення  конкурсу в кожному центрі тестувань по Україні можна побачити на веб-сайті: 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americancouncils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org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7"/>
              </a:rPr>
              <a:t>u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По додаткову інформацію, будь ласка, звертайтеся до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merican Councils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292929"/>
                </a:solidFill>
                <a:uFillTx/>
                <a:latin typeface="Times New Roman"/>
              </a:rPr>
              <a:t>Киї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ул.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Еспланадна, 2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Київ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0100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тел.:  (044)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289-3952, 289-3953, 289-397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факс:  (044)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289-397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e-mail: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8"/>
              </a:rPr>
              <a:t>flex@americancouncils.org.u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227640" y="3933720"/>
            <a:ext cx="21718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Вимоги до конкурсантів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201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 року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Дата народження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-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01.01.1997 – 15.07.199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Навчання в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8,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9 або 10 класі школ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Гарне володіння англійською мовою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Українське громадянств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Конкурсант не мав перебувати у США більш ніж три  місяці  впродовж останніх п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яти років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-27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ритерії по віку і класу для учнів з обмеженими фізичними можлив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281160" y="19782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3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292929"/>
                </a:solidFill>
                <a:uFillTx/>
                <a:latin typeface="Times New Roman"/>
              </a:rPr>
              <a:t>Кандидати повинні: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Бути народжені з 15 березня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1996 по 15 липня 199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Навчатися у 8, 9, 10 або 11 класі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Бути громадянами Україн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Picture 4" descr="D:\My Documents\My Dropbox\Website photos\Cleared Photos\Temirov, Firdavs 2010 Locker.jpg"/>
          <p:cNvPicPr/>
          <p:nvPr/>
        </p:nvPicPr>
        <p:blipFill>
          <a:blip r:embed="rId1"/>
          <a:stretch/>
        </p:blipFill>
        <p:spPr>
          <a:xfrm>
            <a:off x="5580000" y="170028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:\My Documents\My Dropbox\Website photos\Cleared Photos\Kozhevnikova, Alina 2010 Newspaper.bmp"/>
          <p:cNvPicPr/>
          <p:nvPr/>
        </p:nvPicPr>
        <p:blipFill>
          <a:blip r:embed="rId2"/>
          <a:stretch/>
        </p:blipFill>
        <p:spPr>
          <a:xfrm>
            <a:off x="6732720" y="3789360"/>
            <a:ext cx="1569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5760" y="549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USA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ity International, US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840" y="21225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Учні з обмеженнями, які стали фіналістами програми FLEX, в кінці липня, перед тим, як подорожувати до своїх американських родин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беруть участь у тижневому семінарі по навичкам самостійності в місті Юджин, штат Орегон,. Семінар MIUSA включає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Інтерактивні заняття про життя в США для людей із обмеженнями, включно з правами та можливостями в освіті та громадській активності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Заняття з розвитку лідерства, умінь роботи в команді та навичок вирішення проблем</a:t>
            </a:r>
            <a:r>
              <a:rPr b="0" lang="ru-RU" sz="1600" spc="-1" strike="noStrike">
                <a:solidFill>
                  <a:srgbClr val="292929"/>
                </a:solidFill>
                <a:latin typeface="Times New Roman"/>
              </a:rPr>
              <a:t>;</a:t>
            </a: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Планування дій для досягнення коротко- і довготермінових цілей протягом року в США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Documents and Settings\Komp49\My Documents\Dropbox\Website photos\Cleared Photos\Mogildea, Gheorghe 2009 MIUSA.jpg"/>
          <p:cNvPicPr/>
          <p:nvPr/>
        </p:nvPicPr>
        <p:blipFill>
          <a:blip r:embed="rId1"/>
          <a:stretch/>
        </p:blipFill>
        <p:spPr>
          <a:xfrm>
            <a:off x="539640" y="2133720"/>
            <a:ext cx="2071800" cy="27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Komp49\My Documents\Dropbox\Website photos\Cleared Photos\Sivko, Valeriya 2011 challenge course.JPG"/>
          <p:cNvPicPr/>
          <p:nvPr/>
        </p:nvPicPr>
        <p:blipFill>
          <a:blip r:embed="rId2"/>
          <a:stretch/>
        </p:blipFill>
        <p:spPr>
          <a:xfrm>
            <a:off x="2771640" y="2133720"/>
            <a:ext cx="198144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:\My Documents\My Dropbox\Website photos\Cleared Photos\Kozhevnikova, Alina Strength Training.jpg"/>
          <p:cNvPicPr/>
          <p:nvPr/>
        </p:nvPicPr>
        <p:blipFill>
          <a:blip r:embed="rId3"/>
          <a:stretch/>
        </p:blipFill>
        <p:spPr>
          <a:xfrm>
            <a:off x="5003640" y="2133720"/>
            <a:ext cx="35290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к бути, якщо моя англійська недостатньо гар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835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Якщо Вас оберуть фіналістом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FLEX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і Ваші мовні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навички виявляться недостатніми, існує дві можливості покращення Вашої англійської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и можете стати учасником табору Американських Рад «Англійська, як іноземна мова» у Молдові (Кишинів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ас можуть обрати як учасника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LEX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, який підпадає під Мовну Програму. Це означає, що Ваша Приймаюча Організація забезпечить мінімум 14днів інтенсивного навчання або репетиторства з англійської мови в США до початку Вашого навчання у школ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</a:rPr>
              <a:t>Що необхідно мати при собі для участі в конкурсі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оригінал свідоцтва про народженн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фотокартку 3X4 (20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12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року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ручку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Підписану одним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 з батьків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учасника конкурсу </a:t>
            </a: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году на обробку персональних  даних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(цей документ необхідно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завантажи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ти з нашого вебсайту 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americancouncils.org.ua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6480" indent="-45720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УВАГА! Школярі, які не матимуть цьогодокумента у день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проведення конкурсу дотестування допущені не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</a:rPr>
              <a:t>б</a:t>
            </a: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удуть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Тестування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LEX </a:t>
            </a: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складаеться: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292929"/>
                </a:solidFill>
                <a:uFillTx/>
                <a:latin typeface="Times New Roman"/>
              </a:rPr>
              <a:t>Перший тур</a:t>
            </a:r>
            <a:r>
              <a:rPr b="1" lang="ru-RU" sz="2400" spc="-1" strike="noStrike" u="sng">
                <a:solidFill>
                  <a:srgbClr val="292929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це невеликий письмовий тест з англійської мов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зазвичай результати першого туру відомі в день його проведення.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292929"/>
                </a:solidFill>
                <a:uFillTx/>
                <a:latin typeface="Times New Roman"/>
              </a:rPr>
              <a:t>Другий тур: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три невеликих твори на задані те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другий тур, як правило, відбувається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наступного дня</a:t>
            </a: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 після першого туру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всі матеріали другого туру надсилаються до Вашингтону для оцінювання незалежною комісіє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8:06:31Z</dcterms:created>
  <dc:creator>User_Accels</dc:creator>
  <dc:description/>
  <dc:language>en-US</dc:language>
  <cp:lastModifiedBy>user_accels</cp:lastModifiedBy>
  <dcterms:modified xsi:type="dcterms:W3CDTF">2013-04-01T12:51:58Z</dcterms:modified>
  <cp:revision>33</cp:revision>
  <dc:subject/>
  <dc:title>Програма обміну майбутніх лідерів (FLEX) 2009-2010 рік</dc:title>
</cp:coreProperties>
</file>