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A592-B4F6-4E4C-B71D-BBF051081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375C-2F22-44D8-9AC7-069D0546F1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C5134-AEE3-47A3-A575-1B3461DF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D68BE-0ED4-44F1-992B-97BD1D76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0D0E8-47A3-46F5-A8DD-5FF7C547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80723-2141-495D-BF5A-AC5B589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33797-DBC9-4A27-9CA3-1F832F49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A199B-4193-4339-B97F-FB17CFB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31A2D-4574-48F5-AD59-D56F7E09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752FF-C73E-4973-8F05-E8E51853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F35D2-F5DA-4E40-A7FC-2D517902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4D4B9-9F95-4B4A-B8C8-7196B4B2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2103-907C-4790-A07A-464E4E92763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65778-846C-4559-94E3-26C448A1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344F9-6806-4E04-8F3C-4BA18CF6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12453-F7FB-4B7D-B020-D27790B9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C062D-1366-43B0-AE49-72CE91AE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8D131-9413-49FD-9742-B1A50986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98729-851D-40B6-9485-27F54C1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D94F6-8B0B-4810-BD14-AB6EA379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7129F-343A-45B7-B4FA-04455260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4C7F3-1D36-4E8E-8BB1-A5EBDC6C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629D3-7CAB-408E-BFA4-F3A43FA7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21A9-27FB-4E2E-9EAA-04B1AEF051C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0EF3A-3C40-4C29-BA43-FB9849B0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B21DDC-4C17-4923-8BA0-88770878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0B390E-50D1-4016-AD25-4ABCFDD3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AB573A-A5AB-48BD-A26D-69CF8493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4691B0-B9E9-49E0-A40F-C5B921C6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D3FA6E-3938-4B5B-BA5E-B980303D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827329-AB54-4664-AC0A-0D33938D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68F1AC-BBB4-4F46-9D03-2F6EE552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4007D6-524B-4413-A937-E53EBFB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B4AF36-BF12-436D-9EAF-F761551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5C3FE-7274-4A5D-B245-3FA29A76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543B07-C9B5-4490-B4E2-E24CC05A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8D1C87-AC6D-4EAC-9ADC-8AF2F5C2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AE0F07-3C7D-460A-A20C-0C75DE25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D83CB-61DB-46AB-AA0D-7C41747C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8AA30-A493-4BB5-B9A8-A0AB6B67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5CA71-A18C-4669-A4B4-76FBECE7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2E1F1-E735-4A34-A3E8-97038F2A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A2B67-6E05-4E5D-961C-48CFB5EE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C7131-0196-4DFC-AD89-E74F4BEC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5217A-2A52-4FB4-938A-F81AFA3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D3C58-CA75-4CA8-97E9-0F5E124E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C6FF3-E7CD-4B1D-982C-3A57852B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E8FED-FDD4-4565-BAAD-CC48D47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98007-2377-498D-BE67-597C8FA9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6103F-5ECB-4153-9DD6-BBD2E363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52039-98B6-457D-9592-696FC5D6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3861C-CCFE-456D-B128-55C65846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D98FA-B1AD-4AE2-87A3-547B475B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E2563-AA21-4C67-8238-E742BF55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6838D-F74D-4B43-89FF-026D043A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46A0B-0AE4-4BC2-AAD4-E9C814F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BE37-8AEC-41B3-BC92-1235B3F30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2A04C-9605-4C3E-AAB8-E762D9A4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E1F15-A7DC-4E16-BA3A-9F2F7933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D7792-5C61-431F-A05A-9868152B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510C8-2260-4D9D-808B-75E380F3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9A3EC-7423-4088-8ED3-4DDBCACE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68594-9E39-44C7-B071-9E80664E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2220C-C1A1-4D1F-96C1-1FF160C6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E72C9-884E-472A-A936-182D32F2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90494-FC1E-48E1-9939-6BF753D6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EE7E9E-688A-4DC0-9FAD-726DF6B3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333B-1EAF-4668-8F08-E513683B87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0E9E34-E88C-4090-B392-467BFF83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57972-9521-4ED8-924D-9BF81BBF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69A74-5E4B-4DEC-A146-BEE4F07B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8DBA2-3206-422C-A466-7996A4D2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185DF-F800-44A4-BDB3-D3157DF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3D8B8-B561-4CEF-B5C2-853AF385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E02B2-0C98-4588-ADE2-B7909ACF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D3F34-1189-467C-B0BB-30C36FD7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2AA77-4E78-4ACC-934B-D55CF6B5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DF19E-6572-4BA3-949E-78087A70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7349-9B8E-4949-A187-636F0E1694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18F6BE-BEFA-4506-9212-6BF03224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5D5F53-B2E7-45C3-A78E-47CB94F2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A710C-DAF0-4145-838E-89DD825F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9996E-0EB7-4817-80A1-BAEEAE1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A74A3-66BB-4358-B977-085D3E73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50AFF-135D-45FD-84EB-B6AC387C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9CAA8-DF6D-4BF1-97AE-8F93FC83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8446D-4680-4A33-8A96-FE081EBC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279B4-EAB1-4B03-ABC4-85E63A38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1AAC4-A4A3-4236-BA7A-54FC5882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71A6-AD05-4BF8-8A71-AF901BF024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AF59BD-C2FE-4770-8145-78BEB4BC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38F43-F0DC-4EB6-A622-6B8DDE2E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8DD487-4E17-4CBA-A8F3-C000F68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7159B6-667F-4FA8-903E-4603646E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C0DC4-F417-424D-BCD5-864DF9F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19EF6B-7D92-4FC7-A013-9A9E27B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8D63F2-4DD1-4C44-8172-74FB08A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309635-6E9C-4331-B25F-346A522E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7186C-8E53-4B99-B0A8-EFBDD3E5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88D3F-2F01-47BE-A8C3-6E4EF8B4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11E7-0D1E-4711-A47F-C62F65B991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A2586-A134-411E-A892-ECB5CA20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BAB3F-7FA9-465F-B69D-A1B189F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B51D3F-A300-47B4-A486-38A4AA0B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A7E800-E5FE-42C9-8B91-71CD536B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FC8D5F-7463-458F-9FDA-8CA417D2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415FC-78F5-4538-8489-A0DAC8E9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5CEC02-7998-4BDF-8438-5ED8A342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4DBDB-1888-4320-8367-71808167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6133B5-F045-49C6-9610-8A6BF24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7842C-74AB-4C46-8097-198C31ED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69C5-B937-41AE-90D1-E1031EEB45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4F806D-4496-4252-9D86-BDE00804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E4999-89FF-45A6-AE7A-9C2E2943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7546C5-382A-4997-924B-81707B88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586074-8622-4CC5-8323-18FDA6B2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97CA42-740F-4610-B542-8408F4CA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A727A-78C5-47D9-AD63-975018E9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53FC7-984F-4204-A1EB-D6F15CCB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2D274B-69AA-4479-9217-39EDBD44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1E95C5-E31B-43E3-AF25-43A7B457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D320E5-4620-4D57-B6ED-7DD31C33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1964-28A3-4D2E-8D18-5F3D47E7F5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934C0E-AF00-4CD5-A269-43903B6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48756F-9B76-4DFE-9723-3109F94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47EB0E-D180-4CDC-9AB2-7C99BC1C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527D55-FE2B-480B-A6FD-177F4E0B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7A4BF-B550-40E5-AD57-08EB7A14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1189F3-B802-499F-9253-838FB7D8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8E392D-0DA1-4D84-86A6-6208C295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ADE497-2988-4C2E-9AC6-340CF396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7EA59-9F34-4F08-B6B6-4EFE683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EFF74D-FED2-4C08-9713-ADC430B6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A4FB-718E-4A1A-8C97-D385E6DFEFA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-360" y="856800"/>
            <a:ext cx="90010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CA7C4-DD4C-42BE-A854-F3A1EF79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BD1B90-F2E4-4A99-8B27-377E47E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3B5DC7-BA51-4A3B-946E-3EDC41F0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1BF467-A5DE-4BC1-8CDE-216B2B51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211640"/>
            <a:ext cx="83296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64EE04-6AEF-4CAB-B13E-252D01C6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25720" y="178596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725720" y="4211640"/>
            <a:ext cx="4064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B7D825-66F0-4E1A-A459-A2A126CD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7384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90120" y="178596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7384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90120" y="4211640"/>
            <a:ext cx="26820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8093AC-1DDA-40A1-A01E-56FF72BB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6114D-DF3D-416D-8436-72EC2105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542AB-E430-4FF7-9867-4E0E4A3D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BC705-0777-445D-800A-6E40C1AF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0403-4693-4AB8-A9B1-C67C33D900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8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4790-0703-4553-8312-7C4C2897A8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1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F9FF-3BB2-4642-9F94-C007429E1C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4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615A-72A2-4B5D-888A-D06996C23C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A88D-0D6D-48A8-B120-018629CDA3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7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F6AA-14CD-42E4-A35E-11C8220950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D931-0AB9-4396-B803-2E3069A3A5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3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13B2-69E4-4D42-8108-01528DD501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B1FB-F4D7-4FC6-8151-5723E7C4FD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9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D70C-B52D-4A27-B9AD-8530E59B17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2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385-935E-4B32-AA75-9BF1FA4806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798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952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5"/>
          </p:nvPr>
        </p:nvSpPr>
        <p:spPr>
          <a:xfrm>
            <a:off x="842976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E62E-BF4E-4C9C-B88F-4860515B3C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orldwidestudies.org/" TargetMode="External"/><Relationship Id="rId2" Type="http://schemas.openxmlformats.org/officeDocument/2006/relationships/hyperlink" Target="http://www.facebook.com/worldwidestudies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497d"/>
                </a:solidFill>
                <a:latin typeface="Arial"/>
              </a:rPr>
              <a:t>ВСЕСВІТНІ СТУДІЇ Фонду В.Пінчука</a:t>
            </a:r>
            <a:r>
              <a:rPr b="1" lang="uk-UA" sz="32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9640" y="3789360"/>
            <a:ext cx="5616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це можливість отримати грант</a:t>
            </a:r>
            <a:r>
              <a:rPr b="0" lang="uk-UA" sz="24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98989"/>
                </a:solidFill>
                <a:latin typeface="Arial"/>
              </a:rPr>
              <a:t>до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$</a:t>
            </a:r>
            <a:r>
              <a:rPr b="0" lang="uk-UA" sz="2400" spc="-1" strike="noStrike">
                <a:solidFill>
                  <a:srgbClr val="898989"/>
                </a:solidFill>
                <a:latin typeface="Arial"/>
              </a:rPr>
              <a:t>50,000</a:t>
            </a:r>
            <a:r>
              <a:rPr b="0" lang="uk-UA" sz="24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на отримання магістерського ступеню 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в найкращих університетах світу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1"/>
          <a:stretch/>
        </p:blipFill>
        <p:spPr>
          <a:xfrm>
            <a:off x="6732720" y="3068640"/>
            <a:ext cx="2212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1f497d"/>
                </a:solidFill>
                <a:latin typeface="Verdana"/>
              </a:rPr>
              <a:t>Грант покриває</a:t>
            </a:r>
            <a:br>
              <a:rPr sz="3600"/>
            </a:b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504d"/>
                </a:solidFill>
                <a:latin typeface="Verdana"/>
              </a:rPr>
              <a:t>до 60%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ід усієї вартості навчання, до яких можуть входити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ртість навчання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тло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дичне страхування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чальна література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літ до країни навчання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іоритетні напрямки навчання: </a:t>
            </a:r>
            <a:br>
              <a:rPr sz="3600"/>
            </a:b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грарні науки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кологія та охорона навколишнього середовища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аво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ржавне управління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льтернативна енергетика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ерокосмічна інженерія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497d"/>
                </a:solidFill>
                <a:latin typeface="Verdana"/>
              </a:rPr>
              <a:t>55 переможців за 3 роки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785960"/>
            <a:ext cx="832968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2010 - 17 переможців 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2011 - 19 переможців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2012 - 19 переможців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pic>
        <p:nvPicPr>
          <p:cNvPr id="523" name="Рисунок 3" descr="SI_110629_WWW_Studies_2011_4418.jpg"/>
          <p:cNvPicPr/>
          <p:nvPr/>
        </p:nvPicPr>
        <p:blipFill>
          <a:blip r:embed="rId1"/>
          <a:stretch/>
        </p:blipFill>
        <p:spPr>
          <a:xfrm>
            <a:off x="2050920" y="3357720"/>
            <a:ext cx="50421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УМОВИ УЧАСТІ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68360" y="2421000"/>
            <a:ext cx="832968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Verdana"/>
              </a:rPr>
              <a:t>до 35 років, диплом бакалавра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Verdana"/>
              </a:rPr>
              <a:t>вступ до університету ТОП-200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Verdana"/>
              </a:rPr>
              <a:t>наявність фінансування 40% суми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Verdana"/>
              </a:rPr>
              <a:t>план використання знань на благо України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Verdana"/>
              </a:rPr>
              <a:t>володіння мовою навчання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Verdana"/>
              </a:rPr>
              <a:t>намір повернутися мінімум на 5 років до України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Verdana"/>
              </a:rPr>
              <a:t>намір працювати за спеціальністю по поверненні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ЕТАПИ УЧАСТІ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Етап І: Підготовчий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1. Підбір магістерської програми згідно з визначеними пріоритетними галузями. 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2. Складання всіх необхідних іспитів/тестів. Рекомендується до кінця літа 2012.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3. Заповнення та подача заявки на участь у проекті. Період: 1 грудня 2012 року – 15 травня 2013 року.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560880"/>
            <a:ext cx="9001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197000"/>
            <a:ext cx="832968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Етап ІI: Вступ до університету та отримання гранту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1.Подача документів для вступу в університет. </a:t>
            </a:r>
            <a:r>
              <a:rPr b="0" lang="ru-RU" sz="2000" spc="-1" strike="noStrike">
                <a:solidFill>
                  <a:srgbClr val="0070c0"/>
                </a:solidFill>
                <a:latin typeface="Verdana"/>
              </a:rPr>
              <a:t>Період: вересень 2012 — березень 2013.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2.Дозаповнення заявки у Фонд на отримання гранту.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Verdana"/>
              </a:rPr>
              <a:t>До 15 травня 2013.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3.Співбесіда з відбірковим жюрі. </a:t>
            </a:r>
            <a:r>
              <a:rPr b="0" lang="ru-RU" sz="2000" spc="-1" strike="noStrike">
                <a:solidFill>
                  <a:srgbClr val="0070c0"/>
                </a:solidFill>
                <a:latin typeface="Verdana"/>
              </a:rPr>
              <a:t>Травень/червень 2013.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4.Оформлення Договору з Фондом. </a:t>
            </a:r>
            <a:r>
              <a:rPr b="0" lang="ru-RU" sz="2000" spc="-1" strike="noStrike">
                <a:solidFill>
                  <a:srgbClr val="0070c0"/>
                </a:solidFill>
                <a:latin typeface="Verdana"/>
              </a:rPr>
              <a:t>Після проходження співбесіди - червень/липень 2013.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5.Реєстрація в університеті для проходження магістерської програми. </a:t>
            </a:r>
            <a:r>
              <a:rPr b="0" lang="ru-RU" sz="2000" spc="-1" strike="noStrike">
                <a:solidFill>
                  <a:srgbClr val="0070c0"/>
                </a:solidFill>
                <a:latin typeface="Verdana"/>
              </a:rPr>
              <a:t>З вересня 2013 до кінця курсу.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6.Робота в Україні - </a:t>
            </a:r>
            <a:r>
              <a:rPr b="0" lang="ru-RU" sz="2000" spc="-1" strike="noStrike">
                <a:solidFill>
                  <a:srgbClr val="0070c0"/>
                </a:solidFill>
                <a:latin typeface="Verdana"/>
              </a:rPr>
              <a:t>мінімум 5 років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о завершенню навчання.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АШІ ПИТАННЯ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Чи може пересічний студент поступити до престижного ВНЗ? – </a:t>
            </a:r>
            <a:r>
              <a:rPr b="1" lang="ru-RU" sz="2800" spc="-1" strike="noStrike">
                <a:solidFill>
                  <a:srgbClr val="1f497d"/>
                </a:solidFill>
                <a:latin typeface="Verdana"/>
              </a:rPr>
              <a:t>ТАК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Чи реально отримати грант від Всесвітніх Студій? – </a:t>
            </a:r>
            <a:r>
              <a:rPr b="1" lang="ru-RU" sz="2800" spc="-1" strike="noStrike">
                <a:solidFill>
                  <a:srgbClr val="1f497d"/>
                </a:solidFill>
                <a:latin typeface="Verdana"/>
              </a:rPr>
              <a:t>ТАК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Чи можна змінити спеціалізацію при вступі? – </a:t>
            </a:r>
            <a:r>
              <a:rPr b="1" lang="ru-RU" sz="2800" spc="-1" strike="noStrike">
                <a:solidFill>
                  <a:srgbClr val="1f497d"/>
                </a:solidFill>
                <a:latin typeface="Verdana"/>
              </a:rPr>
              <a:t>ТАК, але спеціальність - НІ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Verdana"/>
              </a:rPr>
              <a:t>Чи обов'язково повертатися до України? – </a:t>
            </a:r>
            <a:r>
              <a:rPr b="1" lang="ru-RU" sz="2800" spc="-1" strike="noStrike">
                <a:solidFill>
                  <a:srgbClr val="1f497d"/>
                </a:solidFill>
                <a:latin typeface="Verdana"/>
              </a:rPr>
              <a:t>ТАК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ІНФОРМАЦІЯ</a:t>
            </a:r>
            <a:endParaRPr b="1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785960"/>
            <a:ext cx="83296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Verdana"/>
              </a:rPr>
              <a:t>Подати заявку: </a:t>
            </a:r>
            <a:r>
              <a:rPr b="0" lang="de-DE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orldwidestudies.org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Verdana"/>
              </a:rPr>
              <a:t>Телефон (044) 490-48-21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facebook.com/worldwidestudi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8:58:00Z</dcterms:created>
  <dc:creator>belkova</dc:creator>
  <dc:description/>
  <dc:language>en-US</dc:language>
  <cp:lastModifiedBy>yhladkova</cp:lastModifiedBy>
  <dcterms:modified xsi:type="dcterms:W3CDTF">2013-04-02T11:16:40Z</dcterms:modified>
  <cp:revision>66</cp:revision>
  <dc:subject/>
  <dc:title>Ц</dc:title>
</cp:coreProperties>
</file>