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F46B-4D66-49AB-ABF0-A18B499D3C6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21D8-87CA-44B7-83EA-B0EC3C35BD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768C-57CD-4B98-B1EA-725A14F375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rt a picture of one of the geographic features of your coun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1A91-24FF-46AF-B5BE-92C874DF1C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ert a picture of an animal and or plant found in your count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EBEF-3D11-4A72-86A2-8441B6E0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BF89-A62D-4D62-9372-CFB1A58E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099D-1A3B-4321-A6E3-F0151C955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3B41-C4E2-4F8A-A360-B5681AF85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37AE-D4EC-453D-BD3F-C9592FB62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982A-2E84-4770-8C8D-4F86B505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5FEF-3645-4691-B149-D3991D58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3763-52FD-4F3A-952C-09D719A5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8989-DE86-45B4-91F5-EA1F95BF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6398-F723-438D-B23A-BC35C206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A25A-3204-448B-9440-843A9625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F45C-9006-4ABE-802A-31E3A220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D652-8F02-46C3-B090-817C1BB6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3A21-9A5D-4D45-B4AB-E7600C4B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8EC4-986B-4F04-A26D-C8BDB630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560E-4E76-4467-BEC4-BC9782F0F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9BB0-5DA1-4FAC-9437-865A56B88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FE49-0CA3-4A02-9AF4-921BE328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0FBA-D85C-48B3-AA78-21D65134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FD6B-14FB-47C4-AB55-161C2450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1176-D262-4087-97C6-78462D14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6D6B-FFD3-4A53-91A7-53310AD8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55BA-BA41-4E6D-974C-F9434473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8C8C-DA30-4457-BCD2-C407700D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7BAE-489E-4380-98D2-E9C405F982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002 Відділ преси, освіти та культури Посольства СШ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16CA-C3E9-4021-AB49-3B11591237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irex.ua/" TargetMode="Externa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56800" y="285840"/>
            <a:ext cx="716292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a50021"/>
                </a:solidFill>
                <a:latin typeface="Tahoma"/>
              </a:rPr>
              <a:t>Програми Уряду США </a:t>
            </a:r>
            <a:br>
              <a:rPr sz="4400"/>
            </a:br>
            <a:r>
              <a:rPr b="0" lang="uk-UA" sz="4400" spc="-1" strike="noStrike">
                <a:solidFill>
                  <a:srgbClr val="a50021"/>
                </a:solidFill>
                <a:latin typeface="Tahoma"/>
              </a:rPr>
              <a:t>в Україн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08000" y="4581000"/>
            <a:ext cx="6934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1"/>
          <a:stretch/>
        </p:blipFill>
        <p:spPr>
          <a:xfrm>
            <a:off x="3571920" y="2857680"/>
            <a:ext cx="1714320" cy="16095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9"/>
          <p:cNvSpPr/>
          <p:nvPr/>
        </p:nvSpPr>
        <p:spPr>
          <a:xfrm>
            <a:off x="2804040" y="5715000"/>
            <a:ext cx="339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ublic Affairs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 Embassy – 20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Щомісячна стипендія на особисті витра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Щомісячна оплата житл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Медичне страхуванн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Безкоштовний до США та назад до Україн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Кошти на придбанн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офесійної літератури та підручникі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відвідання професійних заходів у СШ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Типовий фінансовий пакет учасника прогр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914400" y="1500120"/>
            <a:ext cx="822960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1-й етап – розгляд документів, відбір півфіналіст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2-й етап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Співбесіда (англійською мовою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Тестуванн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Arial"/>
              </a:rPr>
              <a:t>офіційний тест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OEFL iB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 Internet-based Test of English as a Foreign Language)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Arial"/>
              </a:rPr>
              <a:t> – для всі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E General Test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 – для кандидатів у суспільних наук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E Subject Test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 – для кандидаті у природничих, прикладних та фундаментальних наук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Arial"/>
              </a:rPr>
              <a:t>Типовий процес відбору учасник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 Unicode MS"/>
              </a:rPr>
              <a:t>Американські рад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 Unicode MS"/>
              </a:rPr>
              <a:t>ACTR/ACC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560" y="356760"/>
            <a:ext cx="900108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53735"/>
                </a:solidFill>
                <a:latin typeface="Arial Unicode MS"/>
              </a:rPr>
              <a:t>Американські ради з міжнародної освіти: </a:t>
            </a:r>
            <a:r>
              <a:rPr b="0" lang="en-US" sz="4000" spc="-1" strike="noStrike">
                <a:solidFill>
                  <a:srgbClr val="953735"/>
                </a:solidFill>
                <a:latin typeface="Arial Unicode MS"/>
              </a:rPr>
              <a:t>ACTR/ACCE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57120" y="2714760"/>
            <a:ext cx="864396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грама обміну майбутніх лідерів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грама стажування працівників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конодавчої влади 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F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643120" y="269640"/>
            <a:ext cx="5586480" cy="15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Програма обміну майбутніх лідерів (FLEX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642960" y="2328840"/>
            <a:ext cx="77868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Lucida Sans Unicode"/>
              </a:rPr>
              <a:t>Програма обміну для школярі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Lucida Sans Unicode"/>
              </a:rPr>
              <a:t>Програма культурного обміну, яка здійснюється за підтримки Бюро у справах освіти та культури Державного департаменту СШ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Lucida Sans Unicode"/>
              </a:rPr>
              <a:t>Адмініструється в Україні організацією “American Councils” за підтримки Міністерства освіти і науки Україн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flex_BEST"/>
          <p:cNvPicPr/>
          <p:nvPr/>
        </p:nvPicPr>
        <p:blipFill>
          <a:blip r:embed="rId1"/>
          <a:stretch/>
        </p:blipFill>
        <p:spPr>
          <a:xfrm>
            <a:off x="571680" y="428760"/>
            <a:ext cx="235404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грама дає можливість українським школярам навчатись у школі в США, проживаючи в американській сім‘ї протягом одного навчального ро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бір претендентів здійснюється шляхом відкритого конкурс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чаток - вересень 2013 року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Програма FLEX: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ата народженн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01.01.1997 – 15.07.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вчання в 8, 9 або 10 класі шко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арне володіння англійською мово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країнське громадян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нкурсант не мав перебувати у США більше трьох  місяців  впродовж останніх п’яти рокі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3300"/>
                </a:solidFill>
                <a:latin typeface="Calibri"/>
              </a:rPr>
              <a:t>Вимоги до конкурсантів </a:t>
            </a:r>
            <a:r>
              <a:rPr b="1" lang="en-US" sz="3300" spc="-1" strike="noStrike">
                <a:solidFill>
                  <a:srgbClr val="ff3300"/>
                </a:solidFill>
                <a:latin typeface="Calibri"/>
              </a:rPr>
              <a:t>FLEX </a:t>
            </a:r>
            <a:r>
              <a:rPr b="1" lang="uk-UA" sz="3300" spc="-1" strike="noStrike">
                <a:solidFill>
                  <a:srgbClr val="ff3300"/>
                </a:solidFill>
                <a:latin typeface="Calibri"/>
              </a:rPr>
              <a:t>201</a:t>
            </a:r>
            <a:r>
              <a:rPr b="1" lang="en-US" sz="3300" spc="-1" strike="noStrike">
                <a:solidFill>
                  <a:srgbClr val="ff3300"/>
                </a:solidFill>
                <a:latin typeface="Calibri"/>
              </a:rPr>
              <a:t>3</a:t>
            </a:r>
            <a:r>
              <a:rPr b="1" lang="uk-UA" sz="3300" spc="-1" strike="noStrike">
                <a:solidFill>
                  <a:srgbClr val="ff3300"/>
                </a:solidFill>
                <a:latin typeface="Calibri"/>
              </a:rPr>
              <a:t> року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6840" y="1356840"/>
            <a:ext cx="8472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ерший тур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великий письмовий тест з англійської мо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Другий тур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и невеликих твори на задані те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Третій тур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овнення анке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ндартизований тест з англійської мови, що виявляє рівень знань мо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исання двох невеликих творів англійською мовою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індивідуальна співбесіда англійською та рідною мов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Тестування FLEX складається: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Calibri"/>
              </a:rPr>
              <a:t>Стипендія програми </a:t>
            </a: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FLEX</a:t>
            </a:r>
            <a:r>
              <a:rPr b="1" lang="uk-UA" sz="4000" spc="-1" strike="noStrike">
                <a:solidFill>
                  <a:srgbClr val="ff3300"/>
                </a:solidFill>
                <a:latin typeface="Calibri"/>
              </a:rPr>
              <a:t> забезпечує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67708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внутрішній та міжнародний проїзд в обидва кінці (від дому до місця проживання в США і зворотній шлях)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кишенькові гроші на кожен місяць, що допомагають учневі брати участь у суспільному житті та купувати предмети індивідуального користування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розміщення в американській сім’ї терміном на один рік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зарахування в американську середню школу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участь у  програмній орієнтації та підготовку до в’їзду в США і до виїзду із США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організацію у США різноманітних заходів на місцевому рівні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медичне страхуванн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1773000"/>
            <a:ext cx="81471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Calibri"/>
              </a:rPr>
              <a:t>Програма FLEX включає окрему програму для дітей з обмеженими фізичними можливостями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Calibri"/>
              </a:rPr>
              <a:t>Кожного року, по цій програмі, 2-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uk-UA" sz="2300" spc="-1" strike="noStrike">
                <a:solidFill>
                  <a:srgbClr val="000000"/>
                </a:solidFill>
                <a:latin typeface="Calibri"/>
              </a:rPr>
              <a:t> учнів їдуть до США на навчанн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Calibri"/>
              </a:rPr>
              <a:t>Вимоги для учасників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Дата народження 15.03.1996 – 15.07.199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Навчання в 8, 9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10</a:t>
            </a: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 або 1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 класі школ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Гарне володіння англійською мовою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Українське громадянство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Конкурсант не мав перебувати у США більше трьох  місяців  впродовж останніх п’яти років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3300"/>
                </a:solidFill>
                <a:latin typeface="Calibri"/>
              </a:rPr>
              <a:t>FLEX</a:t>
            </a:r>
            <a:r>
              <a:rPr b="1" lang="uk-UA" sz="3300" spc="-1" strike="noStrike">
                <a:solidFill>
                  <a:srgbClr val="ff3300"/>
                </a:solidFill>
                <a:latin typeface="Calibri"/>
              </a:rPr>
              <a:t> для дітей з обмеженими </a:t>
            </a:r>
            <a:br>
              <a:rPr sz="3300"/>
            </a:br>
            <a:r>
              <a:rPr b="1" lang="uk-UA" sz="3300" spc="-1" strike="noStrike">
                <a:solidFill>
                  <a:srgbClr val="ff3300"/>
                </a:solidFill>
                <a:latin typeface="Calibri"/>
              </a:rPr>
              <a:t>фізичними можливостями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042920" y="1989000"/>
            <a:ext cx="7245360" cy="38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рама для школярі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664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рама для студентів 1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4 курсів ВН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664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рами для навчання на магістерськорму рівн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664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рами професійного розвитк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664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рами для викладачів середньої шко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664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рами для науковці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664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640" y="98100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Arial"/>
                <a:ea typeface="Arial"/>
              </a:rPr>
              <a:t>Академічні та професійні прогр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109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258920" y="1844280"/>
            <a:ext cx="558648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Calibri"/>
              </a:rPr>
              <a:t>Програма стажування працівників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    </a:t>
            </a:r>
            <a:r>
              <a:rPr b="1" lang="uk-UA" sz="2800" spc="-1" strike="noStrike">
                <a:solidFill>
                  <a:srgbClr val="ff3300"/>
                </a:solidFill>
                <a:latin typeface="Calibri"/>
              </a:rPr>
              <a:t>законодавчої влади  (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LF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57120" y="3429000"/>
            <a:ext cx="778680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фесійна програма 4-тижневого стажування в органах законодавчої влади СШ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ля фахівців у галузі міжнародного права, юриспруденції, міжнародних відносин, політології та державного управлі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ttp://professionalfellows.americancouncils.org/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v1"/>
          <p:cNvPicPr/>
          <p:nvPr/>
        </p:nvPicPr>
        <p:blipFill>
          <a:blip r:embed="rId1"/>
          <a:stretch/>
        </p:blipFill>
        <p:spPr>
          <a:xfrm>
            <a:off x="0" y="-71280"/>
            <a:ext cx="3352680" cy="1901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PFPLogo_horizontal"/>
          <p:cNvPicPr/>
          <p:nvPr/>
        </p:nvPicPr>
        <p:blipFill>
          <a:blip r:embed="rId2"/>
          <a:stretch/>
        </p:blipFill>
        <p:spPr>
          <a:xfrm>
            <a:off x="4100400" y="285840"/>
            <a:ext cx="4114800" cy="11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3300"/>
                </a:solidFill>
                <a:latin typeface="Calibri"/>
              </a:rPr>
              <a:t>Вимоги до учасників </a:t>
            </a:r>
            <a:br>
              <a:rPr sz="3800"/>
            </a:br>
            <a:r>
              <a:rPr b="1" lang="uk-UA" sz="3800" spc="-1" strike="noStrike">
                <a:solidFill>
                  <a:srgbClr val="ff3300"/>
                </a:solidFill>
                <a:latin typeface="Calibri"/>
              </a:rPr>
              <a:t>програми </a:t>
            </a:r>
            <a:r>
              <a:rPr b="1" lang="en-US" sz="3800" spc="-1" strike="noStrike">
                <a:solidFill>
                  <a:srgbClr val="ff3300"/>
                </a:solidFill>
                <a:latin typeface="Calibri"/>
              </a:rPr>
              <a:t>LFP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Громадяни Вірменії, Азербайджану, Грузії, Молдови, Росії, Туреччини чи Україн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ік від 25 до 35 рр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пускники ВНЗів (ступінь бакалавра, магістра, кандидата наук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ільн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лодіння англійською мово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ідповідний досвід роботи у державному секторі (законодавча, виконавча влада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урядові організації тощо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ідерські та комунікативні навич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3300"/>
                </a:solidFill>
                <a:latin typeface="Calibri"/>
              </a:rPr>
              <a:t>Процес відбору кандидатів </a:t>
            </a:r>
            <a:r>
              <a:rPr b="0" lang="en-US" sz="3600" spc="-1" strike="noStrike">
                <a:solidFill>
                  <a:srgbClr val="ff3300"/>
                </a:solidFill>
                <a:latin typeface="Calibri"/>
              </a:rPr>
              <a:t>LFP</a:t>
            </a:r>
            <a:r>
              <a:rPr b="0" lang="uk-UA" sz="3600" spc="-1" strike="noStrike">
                <a:solidFill>
                  <a:srgbClr val="ff33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813960" y="2957040"/>
            <a:ext cx="790092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аповнення анкети на сайті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ttp://ais.americancouncils.or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роходження інтерв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ю у Києві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emi-fin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добуття віз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fina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Посольство СШ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 Unicode MS"/>
              </a:rPr>
              <a:t>Відділ преси, освіти та культу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600" y="928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00000"/>
                </a:solidFill>
                <a:latin typeface="Calibri"/>
              </a:rPr>
              <a:t>Програма ім. Губерта Г. Гамфрі</a:t>
            </a:r>
            <a:br>
              <a:rPr sz="3600"/>
            </a:br>
            <a:r>
              <a:rPr b="0" lang="en-US" sz="2700" spc="-1" strike="noStrike">
                <a:solidFill>
                  <a:srgbClr val="c00000"/>
                </a:solidFill>
                <a:latin typeface="Calibri"/>
              </a:rPr>
              <a:t>Hubert H. Humphrey Fellowship</a:t>
            </a:r>
            <a:br>
              <a:rPr sz="2700"/>
            </a:br>
            <a:r>
              <a:rPr b="0" lang="en-US" sz="2700" spc="-1" strike="noStrike">
                <a:solidFill>
                  <a:srgbClr val="c00000"/>
                </a:solidFill>
                <a:latin typeface="Calibri"/>
              </a:rPr>
              <a:t>for Mid-Career professiona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0" y="3785760"/>
            <a:ext cx="4572000" cy="14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000000"/>
                </a:solidFill>
                <a:latin typeface="Arial"/>
                <a:ea typeface="Arial"/>
              </a:rPr>
              <a:t>Стажування для фахівців на середньому етапі розвитку кар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uk-UA" sz="2700" spc="-1" strike="noStrike">
                <a:solidFill>
                  <a:srgbClr val="000000"/>
                </a:solidFill>
                <a:latin typeface="Arial"/>
                <a:ea typeface="Arial"/>
              </a:rPr>
              <a:t>єр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Arial"/>
              </a:rPr>
              <a:t>Політика та управління у галузі охорони здоров'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Arial"/>
              </a:rPr>
              <a:t>Лікування та запобігання поширенню наркологічної залежності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Arial"/>
              </a:rPr>
              <a:t>Політика щодо запобігання ВІЛ/СНІД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Arial"/>
              </a:rPr>
              <a:t>Природні ресурси/ політика щодо довкілля/ зміна клімат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Arial"/>
              </a:rPr>
              <a:t>Міське та регіональне плануванн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Arial"/>
              </a:rPr>
              <a:t>Економічний розвиток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Arial"/>
              </a:rPr>
              <a:t>Фінансова та банківська справ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Arial"/>
              </a:rPr>
              <a:t>Управління в освіті, планування та політик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Arial"/>
              </a:rPr>
              <a:t>Державна політика та державне управлінн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Arial"/>
              </a:rPr>
              <a:t>Аграрний та сільський розвиток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Hubert H. Humphrey Fellow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Фахівці із закінченою вищою освіто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Знаходяться на середньому етапі професійної кар'єри - щонайменше 5 років досвіду робо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Мають вплив на політику та стратегію розвитку своєї галузі: менеджери та адміністрато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приватного сектор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державного сектор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НД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закладів осві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alibri"/>
              </a:rPr>
              <a:t>Програма ім. Губерта Г. Гамфрі:</a:t>
            </a:r>
            <a:br>
              <a:rPr sz="2800"/>
            </a:br>
            <a:r>
              <a:rPr b="0" lang="uk-UA" sz="2800" spc="-1" strike="noStrike">
                <a:solidFill>
                  <a:srgbClr val="c00000"/>
                </a:solidFill>
                <a:latin typeface="Calibri"/>
              </a:rPr>
              <a:t>вимоги до учасник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Unicode MS"/>
              </a:rPr>
              <a:t>Викладачі ВНЗ від 30-50 рокі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Unicode MS"/>
              </a:rPr>
              <a:t>ТЕМАТИ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Unicode MS"/>
              </a:rPr>
              <a:t>Сучасна американська літера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Unicode MS"/>
              </a:rPr>
              <a:t>Зовнішня політ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Unicode MS"/>
              </a:rPr>
              <a:t>Політика США таПолітологі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Unicode MS"/>
              </a:rPr>
              <a:t>Американська культура та суспіль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Unicode MS"/>
              </a:rPr>
              <a:t>Релігі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Unicode MS"/>
              </a:rPr>
              <a:t>Журналіст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Unicode MS"/>
              </a:rPr>
              <a:t>Методика викладання американських студій у середній школ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Літні школи з американістики у СШ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Вимоги до учасник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икладачі середніх шкіл у 5-11 клас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Будь-яка базова галузь викладання у школ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аявність гарного проекту уро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ільне володіння англійською мово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Програма для викладачів середніх шкіл (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TEA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2276640"/>
            <a:ext cx="8229600" cy="37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-ми тижнева програм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рієнтацію у Вашингтоні – 4 дн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тажування з методики викладання в університеті – 4 тижн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тажування в американські школі – 2 тижн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становча конференція у Вашингтоні – 3 дн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Calibri"/>
              </a:rPr>
              <a:t>Програма для викладачів середніх шкіл (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TE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Unicode MS"/>
              </a:rPr>
              <a:t>Відділ преси, освіти та культури, Посольство СШ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Unicode MS"/>
              </a:rPr>
              <a:t>Американські Ради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(ACTR/ACCEL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Unicode MS"/>
              </a:rPr>
              <a:t>Рада міжнародних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 Unicode MS"/>
              </a:rPr>
              <a:t>наукових досліджень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та </a:t>
            </a:r>
            <a:r>
              <a:rPr b="0" lang="uk-UA" sz="3200" spc="-1" strike="noStrike">
                <a:solidFill>
                  <a:srgbClr val="000000"/>
                </a:solidFill>
                <a:latin typeface="Arial Unicode MS"/>
              </a:rPr>
              <a:t>обмінів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REX</a:t>
            </a:r>
            <a:r>
              <a:rPr b="0" lang="uk-UA" sz="3200" spc="-1" strike="noStrike">
                <a:solidFill>
                  <a:srgbClr val="000000"/>
                </a:solidFill>
                <a:latin typeface="Arial Unicode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Unicode MS"/>
              </a:rPr>
              <a:t>Офіс програм ім. Фулбрай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3300"/>
                </a:solidFill>
                <a:latin typeface="Calibri"/>
              </a:rPr>
              <a:t>Організації – виконавці про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0" y="2491920"/>
            <a:ext cx="8686800" cy="35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ідділ преси, освіти та культур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ул. Глибочицька 4 м. Київ 04050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044) 490-402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ukraine.usembassy.gov/exchanges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3300"/>
                </a:solidFill>
                <a:latin typeface="Calibri"/>
              </a:rPr>
              <a:t>Посольство США: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785680" y="1000080"/>
            <a:ext cx="564372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53735"/>
                </a:solidFill>
                <a:latin typeface="Arial"/>
                <a:ea typeface="Arial"/>
              </a:rPr>
              <a:t>Програма імені Фулбрайта в Україні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00" name="Content Placeholder 2"/>
          <p:cNvSpPr/>
          <p:nvPr/>
        </p:nvSpPr>
        <p:spPr>
          <a:xfrm>
            <a:off x="1000080" y="3000240"/>
            <a:ext cx="821520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ндидатів та докторів наук, дослідників та аспірантів напередодні захи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ля молодих викладачів та дослідни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я студентів старших курсів та випускників ВН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ntent Placeholder 1"/>
          <p:cNvSpPr/>
          <p:nvPr/>
        </p:nvSpPr>
        <p:spPr>
          <a:xfrm>
            <a:off x="2857680" y="5000760"/>
            <a:ext cx="6286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ГУМАНІТАРНІ, СОЦІАЛЬНІ, ТОЧНІ, ТЕХНІЧНІ ТА ПРИРОДНИЧІ ДИСЦИПЛІ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785680" y="1000080"/>
            <a:ext cx="564372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53735"/>
                </a:solidFill>
                <a:latin typeface="Arial"/>
                <a:ea typeface="Arial"/>
              </a:rPr>
              <a:t>Програма імені Фулбрайта в Україні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04" name="Content Placeholder 2"/>
          <p:cNvSpPr/>
          <p:nvPr/>
        </p:nvSpPr>
        <p:spPr>
          <a:xfrm>
            <a:off x="1000080" y="3000240"/>
            <a:ext cx="821520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bright Scholar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bright Faculty Development Pro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bright Graduate Student Exchang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.S. Fulbright Scholar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.S. Fulbright Specialists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785680" y="1000080"/>
            <a:ext cx="564372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0033"/>
                </a:solidFill>
                <a:latin typeface="Arial"/>
                <a:ea typeface="Arial"/>
              </a:rPr>
              <a:t>Fulbright Graduate Student Exchange Program </a:t>
            </a: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07" name="Content Placeholder 2"/>
          <p:cNvSpPr/>
          <p:nvPr/>
        </p:nvSpPr>
        <p:spPr>
          <a:xfrm>
            <a:off x="1000080" y="3000240"/>
            <a:ext cx="7715160" cy="31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вчання в університетах СШ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 одного до двох років для здобуттяступеня магіс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конкурсі можуть брати участь студенти старших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6-х курсів), випускники українських ВНЗ, аспіран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-2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урсу та молоді спеціалі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  <a:ea typeface="Arial"/>
              </a:rPr>
              <a:t>кінцевий термін подання документів - 16 тра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udent@fulbright.com.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85680" y="1000080"/>
            <a:ext cx="564372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0033"/>
                </a:solidFill>
                <a:latin typeface="Arial"/>
                <a:ea typeface="Arial"/>
              </a:rPr>
              <a:t>Fulbright Graduate Student Exchange Program </a:t>
            </a: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10" name="Content Placeholder 2"/>
          <p:cNvSpPr/>
          <p:nvPr/>
        </p:nvSpPr>
        <p:spPr>
          <a:xfrm>
            <a:off x="1000080" y="3214800"/>
            <a:ext cx="814392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-й етап –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цензування проект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-й етап –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півбесіда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(англійською мовою) </a:t>
            </a:r>
            <a:r>
              <a:rPr b="0" lang="uk-UA" sz="2400" spc="-1" strike="noStrike">
                <a:solidFill>
                  <a:srgbClr val="000000"/>
                </a:solidFill>
                <a:latin typeface="Arial Narrow"/>
              </a:rPr>
              <a:t>та тестування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іналісти складатимуть комп’ютерні те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EFL iB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ternet-based Test of English as a Foreign Language)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 General 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raduate Record Examin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-й етап –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твердження рекомендованих кандидатів та визначення університетів для фіналістів Прогр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1285920" y="271476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79646"/>
                </a:solidFill>
                <a:latin typeface="Arial"/>
              </a:rPr>
              <a:t>Відбір учасникі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785680" y="1000080"/>
            <a:ext cx="564372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0033"/>
                </a:solidFill>
                <a:latin typeface="Arial"/>
                <a:ea typeface="Arial"/>
              </a:rPr>
              <a:t>Fulbright Faculty Development Program </a:t>
            </a: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14" name="Content Placeholder 2"/>
          <p:cNvSpPr/>
          <p:nvPr/>
        </p:nvSpPr>
        <p:spPr>
          <a:xfrm>
            <a:off x="1000080" y="3000240"/>
            <a:ext cx="77151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ослідницька програма для молодих викладачів та науковців, журналістів, фахівців з бібліотечної, музейної, архівної справи та спеціалістів у галузі управління культу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кінцевий термін подання документів - 31 берез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udent@fulbright.com.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85680" y="1000080"/>
            <a:ext cx="564372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0033"/>
                </a:solidFill>
                <a:latin typeface="Arial"/>
                <a:ea typeface="Arial"/>
              </a:rPr>
              <a:t>Fulbright Faculty Development Program </a:t>
            </a: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17" name="Content Placeholder 2"/>
          <p:cNvSpPr/>
          <p:nvPr/>
        </p:nvSpPr>
        <p:spPr>
          <a:xfrm>
            <a:off x="1000080" y="3143160"/>
            <a:ext cx="771516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конкурсі можуть брати участь науковці та спеціалісти з дворічним професійним досвідом, віком до 40 років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кі ще не мають наукового ступеня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та молоді кандидати на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785680" y="1000080"/>
            <a:ext cx="564372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53735"/>
                </a:solidFill>
                <a:latin typeface="Arial"/>
                <a:ea typeface="Arial"/>
              </a:rPr>
              <a:t>Програма імені Фулбрайта в Україні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20" name="Content Placeholder 2"/>
          <p:cNvSpPr/>
          <p:nvPr/>
        </p:nvSpPr>
        <p:spPr>
          <a:xfrm>
            <a:off x="2357280" y="3000240"/>
            <a:ext cx="678672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. fulbright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ул. Еспланадна, 20, офіс 9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їв 01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ефон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044) 287-07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ice@fulbright.com.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Рада міжнародних обмінів науковц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 Unicode MS"/>
              </a:rPr>
              <a:t>IR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The Global Undergraduate Exchange Program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755640" y="6276960"/>
            <a:ext cx="777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Content Placeholder 4" descr="GlobalUgradLogo"/>
          <p:cNvPicPr/>
          <p:nvPr/>
        </p:nvPicPr>
        <p:blipFill>
          <a:blip r:embed="rId1"/>
          <a:stretch/>
        </p:blipFill>
        <p:spPr>
          <a:xfrm>
            <a:off x="468360" y="2276640"/>
            <a:ext cx="8236080" cy="266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Програми для школярів та студент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Group 14"/>
          <p:cNvGrpSpPr/>
          <p:nvPr/>
        </p:nvGrpSpPr>
        <p:grpSpPr>
          <a:xfrm>
            <a:off x="685800" y="5029200"/>
            <a:ext cx="8152920" cy="1031400"/>
            <a:chOff x="685800" y="5029200"/>
            <a:chExt cx="8152920" cy="1031400"/>
          </a:xfrm>
        </p:grpSpPr>
        <p:sp>
          <p:nvSpPr>
            <p:cNvPr id="100" name="AutoShape 15"/>
            <p:cNvSpPr/>
            <p:nvPr/>
          </p:nvSpPr>
          <p:spPr>
            <a:xfrm>
              <a:off x="685800" y="5029200"/>
              <a:ext cx="8152920" cy="958320"/>
            </a:xfrm>
            <a:prstGeom prst="roundRect">
              <a:avLst>
                <a:gd name="adj" fmla="val 16667"/>
              </a:avLst>
            </a:prstGeom>
            <a:solidFill>
              <a:srgbClr val="b0eebd"/>
            </a:solidFill>
            <a:ln w="9360">
              <a:solidFill>
                <a:srgbClr val="50c0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16" descr="emb_eagle1"/>
            <p:cNvPicPr/>
            <p:nvPr/>
          </p:nvPicPr>
          <p:blipFill>
            <a:blip r:embed="rId1"/>
            <a:stretch/>
          </p:blipFill>
          <p:spPr>
            <a:xfrm>
              <a:off x="808920" y="5109120"/>
              <a:ext cx="1029600" cy="95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WordArt 17"/>
            <p:cNvSpPr txBox="1"/>
            <p:nvPr/>
          </p:nvSpPr>
          <p:spPr>
            <a:xfrm>
              <a:off x="1973160" y="5029200"/>
              <a:ext cx="6591960" cy="87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ідділ преси, освіти та культури Посольства США</a:t>
              </a:r>
              <a:endPara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Public Affairs Section, US Embassy</a:t>
              </a:r>
              <a:endPara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03" name="Text Box 29"/>
          <p:cNvSpPr/>
          <p:nvPr/>
        </p:nvSpPr>
        <p:spPr>
          <a:xfrm>
            <a:off x="5508720" y="2492280"/>
            <a:ext cx="1752480" cy="520560"/>
          </a:xfrm>
          <a:prstGeom prst="rect">
            <a:avLst/>
          </a:prstGeom>
          <a:solidFill>
            <a:srgbClr val="cc99ff"/>
          </a:solidFill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9"/>
          <p:cNvSpPr/>
          <p:nvPr/>
        </p:nvSpPr>
        <p:spPr>
          <a:xfrm>
            <a:off x="4932360" y="3284640"/>
            <a:ext cx="2952720" cy="13636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0"/>
          <p:cNvSpPr/>
          <p:nvPr/>
        </p:nvSpPr>
        <p:spPr>
          <a:xfrm>
            <a:off x="5311800" y="3505320"/>
            <a:ext cx="1987560" cy="862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Американськ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Р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2"/>
          <p:cNvSpPr/>
          <p:nvPr/>
        </p:nvSpPr>
        <p:spPr>
          <a:xfrm>
            <a:off x="1116000" y="2205000"/>
            <a:ext cx="3095640" cy="703800"/>
          </a:xfrm>
          <a:prstGeom prst="rect">
            <a:avLst/>
          </a:prstGeom>
          <a:solidFill>
            <a:srgbClr val="cc99ff"/>
          </a:solidFill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lobal Undergraduate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9"/>
          <p:cNvSpPr/>
          <p:nvPr/>
        </p:nvSpPr>
        <p:spPr>
          <a:xfrm>
            <a:off x="1476360" y="3429000"/>
            <a:ext cx="2016000" cy="1219320"/>
          </a:xfrm>
          <a:prstGeom prst="ellipse">
            <a:avLst/>
          </a:prstGeom>
          <a:solidFill>
            <a:srgbClr val="3b84b1"/>
          </a:solidFill>
          <a:ln w="38160">
            <a:solidFill>
              <a:srgbClr val="3b84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0"/>
          <p:cNvSpPr/>
          <p:nvPr/>
        </p:nvSpPr>
        <p:spPr>
          <a:xfrm>
            <a:off x="1763640" y="3789360"/>
            <a:ext cx="1568520" cy="520560"/>
          </a:xfrm>
          <a:prstGeom prst="rect">
            <a:avLst/>
          </a:prstGeom>
          <a:solidFill>
            <a:srgbClr val="3b84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R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2"/>
          <p:cNvSpPr/>
          <p:nvPr/>
        </p:nvSpPr>
        <p:spPr>
          <a:xfrm flipV="1">
            <a:off x="2484360" y="4652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3"/>
          <p:cNvSpPr/>
          <p:nvPr/>
        </p:nvSpPr>
        <p:spPr>
          <a:xfrm flipV="1">
            <a:off x="6443640" y="4652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4"/>
          <p:cNvSpPr/>
          <p:nvPr/>
        </p:nvSpPr>
        <p:spPr>
          <a:xfrm flipV="1">
            <a:off x="2411280" y="3213000"/>
            <a:ext cx="0" cy="21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5"/>
          <p:cNvSpPr/>
          <p:nvPr/>
        </p:nvSpPr>
        <p:spPr>
          <a:xfrm flipV="1">
            <a:off x="6372360" y="299736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opportunity for current first, second, third, an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year undergraduate students to spend one academic year of non-degree study in a US university or community colle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nts are selected through an open, merit-based competi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UGRAD fellows are placed at accredited universities and colleges throughout the US for a yearlong program of full-time stud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he fellowship is fully fun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Global UGRAD Program Overview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Global UGRAD Program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9152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fellows wi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end classes full-time for one academic year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 a minimum of 20 hours of community service in their host city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 two presentations sharing their countries’ histories and traditions with Americans at their host institutions and in off-campus settings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lete a part-time internship during their second semes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50920" y="333000"/>
            <a:ext cx="820872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261800" y="1714320"/>
            <a:ext cx="66992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IREX Ukrai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Vul. Saksahanskoho 36D, 2</a:t>
            </a:r>
            <a:r>
              <a:rPr b="1" lang="en-US" sz="27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Entrance, 5th Floor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Kyiv, Ukraine 0103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hone/Fax:  (380)(44) 537-0604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537-2780, 537-2781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Web: </a:t>
            </a:r>
            <a:r>
              <a:rPr b="0" lang="en-US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irex.ua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00000"/>
                </a:solidFill>
                <a:latin typeface="Calibri"/>
              </a:rPr>
              <a:t>Where to find more informa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6840" y="1357200"/>
            <a:ext cx="84726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yiv.usembassy.gov/educult_partner_organizations_eng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uk-UA" sz="3200" spc="-1" strike="noStrike">
                <a:solidFill>
                  <a:srgbClr val="cc0066"/>
                </a:solidFill>
                <a:latin typeface="Calibri"/>
              </a:rPr>
              <a:t>Консультативні центри з питань освіти </a:t>
            </a:r>
            <a:br>
              <a:rPr sz="3200"/>
            </a:br>
            <a:r>
              <a:rPr b="0" lang="en-US" sz="3200" spc="-1" strike="noStrike">
                <a:solidFill>
                  <a:srgbClr val="cc0066"/>
                </a:solidFill>
                <a:latin typeface="Calibri"/>
              </a:rPr>
              <a:t>Educational Advising </a:t>
            </a:r>
            <a:r>
              <a:rPr b="0" lang="uk-UA" sz="3200" spc="-1" strike="noStrike">
                <a:solidFill>
                  <a:srgbClr val="cc0066"/>
                </a:solidFill>
                <a:latin typeface="Calibri"/>
              </a:rPr>
              <a:t>С</a:t>
            </a:r>
            <a:r>
              <a:rPr b="0" lang="en-US" sz="3200" spc="-1" strike="noStrike">
                <a:solidFill>
                  <a:srgbClr val="cc0066"/>
                </a:solidFill>
                <a:latin typeface="Calibri"/>
              </a:rPr>
              <a:t>enters</a:t>
            </a:r>
            <a:br>
              <a:rPr sz="23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Group 11"/>
          <p:cNvGrpSpPr/>
          <p:nvPr/>
        </p:nvGrpSpPr>
        <p:grpSpPr>
          <a:xfrm>
            <a:off x="1332000" y="1844640"/>
            <a:ext cx="6775200" cy="3959280"/>
            <a:chOff x="1332000" y="1844640"/>
            <a:chExt cx="6775200" cy="3959280"/>
          </a:xfrm>
        </p:grpSpPr>
        <p:pic>
          <p:nvPicPr>
            <p:cNvPr id="236" name="Picture 5" descr="e_ukr"/>
            <p:cNvPicPr/>
            <p:nvPr/>
          </p:nvPicPr>
          <p:blipFill>
            <a:blip r:embed="rId1"/>
            <a:stretch/>
          </p:blipFill>
          <p:spPr>
            <a:xfrm>
              <a:off x="1332000" y="1844640"/>
              <a:ext cx="6775200" cy="3959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7" name="Group 10"/>
            <p:cNvGrpSpPr/>
            <p:nvPr/>
          </p:nvGrpSpPr>
          <p:grpSpPr>
            <a:xfrm>
              <a:off x="2260440" y="2987640"/>
              <a:ext cx="4290840" cy="2417760"/>
              <a:chOff x="2260440" y="2987640"/>
              <a:chExt cx="4290840" cy="2417760"/>
            </a:xfrm>
          </p:grpSpPr>
          <p:sp>
            <p:nvSpPr>
              <p:cNvPr id="238" name="Oval 9"/>
              <p:cNvSpPr/>
              <p:nvPr/>
            </p:nvSpPr>
            <p:spPr>
              <a:xfrm>
                <a:off x="2260440" y="3058920"/>
                <a:ext cx="218880" cy="20304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11"/>
              <p:cNvSpPr/>
              <p:nvPr/>
            </p:nvSpPr>
            <p:spPr>
              <a:xfrm>
                <a:off x="4331880" y="2987640"/>
                <a:ext cx="217440" cy="20304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22"/>
              <p:cNvSpPr/>
              <p:nvPr/>
            </p:nvSpPr>
            <p:spPr>
              <a:xfrm>
                <a:off x="5403600" y="3916440"/>
                <a:ext cx="218880" cy="20304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Oval 23"/>
              <p:cNvSpPr/>
              <p:nvPr/>
            </p:nvSpPr>
            <p:spPr>
              <a:xfrm>
                <a:off x="6332400" y="3130200"/>
                <a:ext cx="218880" cy="20304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27"/>
              <p:cNvSpPr/>
              <p:nvPr/>
            </p:nvSpPr>
            <p:spPr>
              <a:xfrm>
                <a:off x="5975280" y="5202360"/>
                <a:ext cx="218880" cy="20304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Oval 28"/>
          <p:cNvSpPr/>
          <p:nvPr/>
        </p:nvSpPr>
        <p:spPr>
          <a:xfrm>
            <a:off x="5786280" y="5214960"/>
            <a:ext cx="219240" cy="2030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3"/>
          <p:cNvSpPr/>
          <p:nvPr/>
        </p:nvSpPr>
        <p:spPr>
          <a:xfrm>
            <a:off x="533520" y="243828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6705720" y="266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c0000"/>
                </a:solidFill>
                <a:latin typeface="Verdana"/>
              </a:rPr>
              <a:t>Ресурси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EducationUSA </a:t>
            </a:r>
            <a:r>
              <a:rPr b="1" lang="uk-UA" sz="3600" spc="-1" strike="noStrike">
                <a:solidFill>
                  <a:srgbClr val="cc0000"/>
                </a:solidFill>
                <a:latin typeface="Verdana"/>
              </a:rPr>
              <a:t>у Києв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216000" y="1334520"/>
            <a:ext cx="8677080" cy="46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ідкові матеріали стосовно процесу вступ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S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готовчі матеріали до тесті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ідники про коледжі та університе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и окреми ВНЗ у С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тність в інтерн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б-сторінк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ww.americancouncilskyiv.org.ua/EA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клад поді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ac.kyiv@gmail.c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клад вебінарів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educationusa.info/edusa_connect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іальні мережі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ww.facebook.com/EducationUSA.Ukr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twitter.com/EACKyi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6"/>
          <p:cNvSpPr/>
          <p:nvPr/>
        </p:nvSpPr>
        <p:spPr>
          <a:xfrm>
            <a:off x="287280" y="3465360"/>
            <a:ext cx="867744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0"/>
          <p:cNvSpPr/>
          <p:nvPr/>
        </p:nvSpPr>
        <p:spPr>
          <a:xfrm>
            <a:off x="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4" descr="edUSA Logo-Big"/>
          <p:cNvPicPr/>
          <p:nvPr/>
        </p:nvPicPr>
        <p:blipFill>
          <a:blip r:embed="rId1"/>
          <a:stretch/>
        </p:blipFill>
        <p:spPr>
          <a:xfrm>
            <a:off x="6948360" y="368280"/>
            <a:ext cx="1440000" cy="5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5"/>
          <p:cNvSpPr/>
          <p:nvPr/>
        </p:nvSpPr>
        <p:spPr>
          <a:xfrm>
            <a:off x="5775480" y="263196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5410080" y="350532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810108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4000" spc="-1" strike="noStrike">
                <a:solidFill>
                  <a:srgbClr val="cc0000"/>
                </a:solidFill>
                <a:latin typeface="Verdana"/>
              </a:rPr>
              <a:t>Заходи </a:t>
            </a: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EducationUSA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27"/>
          <p:cNvSpPr/>
          <p:nvPr/>
        </p:nvSpPr>
        <p:spPr>
          <a:xfrm>
            <a:off x="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9"/>
          <p:cNvSpPr/>
          <p:nvPr/>
        </p:nvSpPr>
        <p:spPr>
          <a:xfrm>
            <a:off x="1150920" y="1557360"/>
            <a:ext cx="7524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ції щодо процесу вступу до університетів С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інари щодо написання ессе та резю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ії американських університет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ії програм уряду С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біна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ітні ярмар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useic"/>
          <p:cNvPicPr/>
          <p:nvPr/>
        </p:nvPicPr>
        <p:blipFill>
          <a:blip r:embed="rId1"/>
          <a:stretch/>
        </p:blipFill>
        <p:spPr>
          <a:xfrm>
            <a:off x="7236000" y="0"/>
            <a:ext cx="1666800" cy="92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4898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75247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24000" y="351000"/>
            <a:ext cx="835164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a50021"/>
                </a:solidFill>
                <a:latin typeface="Calibri"/>
              </a:rPr>
              <a:t>Програми професійного розвитку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Line 8"/>
          <p:cNvSpPr/>
          <p:nvPr/>
        </p:nvSpPr>
        <p:spPr>
          <a:xfrm flipV="1">
            <a:off x="8001000" y="4876560"/>
            <a:ext cx="0" cy="152280"/>
          </a:xfrm>
          <a:prstGeom prst="line">
            <a:avLst/>
          </a:prstGeom>
          <a:ln w="76320">
            <a:solidFill>
              <a:srgbClr val="50c09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"/>
          <p:cNvSpPr/>
          <p:nvPr/>
        </p:nvSpPr>
        <p:spPr>
          <a:xfrm flipV="1">
            <a:off x="7924680" y="3428640"/>
            <a:ext cx="0" cy="30492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9"/>
          <p:cNvGrpSpPr/>
          <p:nvPr/>
        </p:nvGrpSpPr>
        <p:grpSpPr>
          <a:xfrm>
            <a:off x="685800" y="2403360"/>
            <a:ext cx="8305920" cy="3657240"/>
            <a:chOff x="685800" y="2403360"/>
            <a:chExt cx="8305920" cy="3657240"/>
          </a:xfrm>
        </p:grpSpPr>
        <p:grpSp>
          <p:nvGrpSpPr>
            <p:cNvPr id="117" name="Group 14"/>
            <p:cNvGrpSpPr/>
            <p:nvPr/>
          </p:nvGrpSpPr>
          <p:grpSpPr>
            <a:xfrm>
              <a:off x="685800" y="5029200"/>
              <a:ext cx="8153280" cy="1031400"/>
              <a:chOff x="685800" y="5029200"/>
              <a:chExt cx="8153280" cy="1031400"/>
            </a:xfrm>
          </p:grpSpPr>
          <p:sp>
            <p:nvSpPr>
              <p:cNvPr id="118" name="AutoShape 15"/>
              <p:cNvSpPr/>
              <p:nvPr/>
            </p:nvSpPr>
            <p:spPr>
              <a:xfrm>
                <a:off x="685800" y="5029200"/>
                <a:ext cx="8153280" cy="958320"/>
              </a:xfrm>
              <a:prstGeom prst="roundRect">
                <a:avLst>
                  <a:gd name="adj" fmla="val 16667"/>
                </a:avLst>
              </a:prstGeom>
              <a:solidFill>
                <a:srgbClr val="b0eebd"/>
              </a:solidFill>
              <a:ln w="9360">
                <a:solidFill>
                  <a:srgbClr val="50c0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" name="Picture 16" descr="emb_eagle1"/>
              <p:cNvPicPr/>
              <p:nvPr/>
            </p:nvPicPr>
            <p:blipFill>
              <a:blip r:embed="rId1"/>
              <a:stretch/>
            </p:blipFill>
            <p:spPr>
              <a:xfrm>
                <a:off x="808920" y="5109120"/>
                <a:ext cx="1029600" cy="95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WordArt 17"/>
              <p:cNvSpPr txBox="1"/>
              <p:nvPr/>
            </p:nvSpPr>
            <p:spPr>
              <a:xfrm>
                <a:off x="1973160" y="5029200"/>
                <a:ext cx="6592320" cy="878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Відділ преси, освіти та культури Посольства США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Public Affairs Section, US Embassy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121" name="Text Box 29"/>
            <p:cNvSpPr/>
            <p:nvPr/>
          </p:nvSpPr>
          <p:spPr>
            <a:xfrm>
              <a:off x="7010640" y="2422080"/>
              <a:ext cx="1752480" cy="100872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Fulbright Faculty Develop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Group 31"/>
            <p:cNvGrpSpPr/>
            <p:nvPr/>
          </p:nvGrpSpPr>
          <p:grpSpPr>
            <a:xfrm>
              <a:off x="6934320" y="3657600"/>
              <a:ext cx="2057400" cy="1218960"/>
              <a:chOff x="6934320" y="3657600"/>
              <a:chExt cx="2057400" cy="1218960"/>
            </a:xfrm>
          </p:grpSpPr>
          <p:sp>
            <p:nvSpPr>
              <p:cNvPr id="123" name="Oval 19"/>
              <p:cNvSpPr/>
              <p:nvPr/>
            </p:nvSpPr>
            <p:spPr>
              <a:xfrm>
                <a:off x="6934320" y="3657600"/>
                <a:ext cx="2057400" cy="1218960"/>
              </a:xfrm>
              <a:prstGeom prst="ellipse">
                <a:avLst/>
              </a:prstGeom>
              <a:solidFill>
                <a:srgbClr val="ff99cc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 Box 30"/>
              <p:cNvSpPr/>
              <p:nvPr/>
            </p:nvSpPr>
            <p:spPr>
              <a:xfrm>
                <a:off x="7238880" y="3733560"/>
                <a:ext cx="16002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000" spc="-1" strike="noStrike">
                    <a:solidFill>
                      <a:srgbClr val="000000"/>
                    </a:solidFill>
                    <a:latin typeface="Calibri"/>
                  </a:rPr>
                  <a:t>Офіс Програм ім. Фулбрайт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Text Box 32"/>
            <p:cNvSpPr/>
            <p:nvPr/>
          </p:nvSpPr>
          <p:spPr>
            <a:xfrm>
              <a:off x="761760" y="2403360"/>
              <a:ext cx="1752480" cy="100872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Hubert Humphrey Fellow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3"/>
            <p:cNvSpPr/>
            <p:nvPr/>
          </p:nvSpPr>
          <p:spPr>
            <a:xfrm>
              <a:off x="2819520" y="2403360"/>
              <a:ext cx="1752480" cy="100872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American Studies Institu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4"/>
            <p:cNvSpPr/>
            <p:nvPr/>
          </p:nvSpPr>
          <p:spPr>
            <a:xfrm>
              <a:off x="4953240" y="2403360"/>
              <a:ext cx="1752480" cy="100872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Awards for Excellence in Teach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37"/>
            <p:cNvSpPr/>
            <p:nvPr/>
          </p:nvSpPr>
          <p:spPr>
            <a:xfrm flipV="1">
              <a:off x="1600200" y="3428280"/>
              <a:ext cx="0" cy="1600200"/>
            </a:xfrm>
            <a:prstGeom prst="line">
              <a:avLst/>
            </a:prstGeom>
            <a:ln w="7632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38"/>
            <p:cNvSpPr/>
            <p:nvPr/>
          </p:nvSpPr>
          <p:spPr>
            <a:xfrm flipV="1">
              <a:off x="3571920" y="3428280"/>
              <a:ext cx="0" cy="1600200"/>
            </a:xfrm>
            <a:prstGeom prst="line">
              <a:avLst/>
            </a:prstGeom>
            <a:ln w="7632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9"/>
            <p:cNvSpPr/>
            <p:nvPr/>
          </p:nvSpPr>
          <p:spPr>
            <a:xfrm flipV="1">
              <a:off x="5705640" y="3428280"/>
              <a:ext cx="0" cy="1600200"/>
            </a:xfrm>
            <a:prstGeom prst="line">
              <a:avLst/>
            </a:prstGeom>
            <a:ln w="7632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23840" y="1214280"/>
            <a:ext cx="812016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alibri"/>
              </a:rPr>
              <a:t>Програми з отриманням ступеня Магістра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*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Line 8"/>
          <p:cNvSpPr/>
          <p:nvPr/>
        </p:nvSpPr>
        <p:spPr>
          <a:xfrm flipV="1">
            <a:off x="8001000" y="4876560"/>
            <a:ext cx="0" cy="152280"/>
          </a:xfrm>
          <a:prstGeom prst="line">
            <a:avLst/>
          </a:prstGeom>
          <a:ln w="76320">
            <a:solidFill>
              <a:srgbClr val="50c09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6"/>
          <p:cNvGrpSpPr/>
          <p:nvPr/>
        </p:nvGrpSpPr>
        <p:grpSpPr>
          <a:xfrm>
            <a:off x="755640" y="2276640"/>
            <a:ext cx="8152920" cy="3783960"/>
            <a:chOff x="755640" y="2276640"/>
            <a:chExt cx="8152920" cy="3783960"/>
          </a:xfrm>
        </p:grpSpPr>
        <p:grpSp>
          <p:nvGrpSpPr>
            <p:cNvPr id="134" name="Group 5"/>
            <p:cNvGrpSpPr/>
            <p:nvPr/>
          </p:nvGrpSpPr>
          <p:grpSpPr>
            <a:xfrm>
              <a:off x="755640" y="2276640"/>
              <a:ext cx="8152920" cy="3783960"/>
              <a:chOff x="755640" y="2276640"/>
              <a:chExt cx="8152920" cy="3783960"/>
            </a:xfrm>
          </p:grpSpPr>
          <p:sp>
            <p:nvSpPr>
              <p:cNvPr id="135" name="Line 9"/>
              <p:cNvSpPr/>
              <p:nvPr/>
            </p:nvSpPr>
            <p:spPr>
              <a:xfrm flipV="1">
                <a:off x="5578560" y="3068280"/>
                <a:ext cx="0" cy="808200"/>
              </a:xfrm>
              <a:prstGeom prst="line">
                <a:avLst/>
              </a:prstGeom>
              <a:ln w="7632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" name="Group 14"/>
              <p:cNvGrpSpPr/>
              <p:nvPr/>
            </p:nvGrpSpPr>
            <p:grpSpPr>
              <a:xfrm>
                <a:off x="755640" y="5029200"/>
                <a:ext cx="8152920" cy="1031400"/>
                <a:chOff x="755640" y="5029200"/>
                <a:chExt cx="8152920" cy="1031400"/>
              </a:xfrm>
            </p:grpSpPr>
            <p:sp>
              <p:nvSpPr>
                <p:cNvPr id="137" name="AutoShape 15"/>
                <p:cNvSpPr/>
                <p:nvPr/>
              </p:nvSpPr>
              <p:spPr>
                <a:xfrm>
                  <a:off x="755640" y="5029200"/>
                  <a:ext cx="8152920" cy="958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0eebd"/>
                </a:solidFill>
                <a:ln w="9360">
                  <a:solidFill>
                    <a:srgbClr val="50c09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38" name="Picture 16" descr="emb_eagle1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78760" y="5109120"/>
                  <a:ext cx="1029600" cy="95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WordArt 17"/>
                <p:cNvSpPr txBox="1"/>
                <p:nvPr/>
              </p:nvSpPr>
              <p:spPr>
                <a:xfrm>
                  <a:off x="2043000" y="5029200"/>
                  <a:ext cx="6591960" cy="878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</a:rPr>
                    <a:t>Відділ преси, освіти та культури Посольства США</a:t>
                  </a:r>
                  <a:endPara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  <a:ea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</a:rPr>
                    <a:t>Public Affairs Section, US Embassy</a:t>
                  </a:r>
                  <a:endPara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140" name="Text Box 29"/>
              <p:cNvSpPr/>
              <p:nvPr/>
            </p:nvSpPr>
            <p:spPr>
              <a:xfrm>
                <a:off x="1617480" y="2276640"/>
                <a:ext cx="2468880" cy="703800"/>
              </a:xfrm>
              <a:prstGeom prst="rect">
                <a:avLst/>
              </a:prstGeom>
              <a:solidFill>
                <a:srgbClr val="cc99ff"/>
              </a:solidFill>
              <a:ln w="1908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Fulbright Graduate Student Progra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" name="Group 31"/>
              <p:cNvGrpSpPr/>
              <p:nvPr/>
            </p:nvGrpSpPr>
            <p:grpSpPr>
              <a:xfrm>
                <a:off x="2770200" y="3645000"/>
                <a:ext cx="3214440" cy="1218960"/>
                <a:chOff x="2770200" y="3645000"/>
                <a:chExt cx="3214440" cy="1218960"/>
              </a:xfrm>
            </p:grpSpPr>
            <p:sp>
              <p:nvSpPr>
                <p:cNvPr id="142" name="Oval 19"/>
                <p:cNvSpPr/>
                <p:nvPr/>
              </p:nvSpPr>
              <p:spPr>
                <a:xfrm>
                  <a:off x="2770200" y="3645000"/>
                  <a:ext cx="3214440" cy="1218960"/>
                </a:xfrm>
                <a:prstGeom prst="ellipse">
                  <a:avLst/>
                </a:prstGeom>
                <a:solidFill>
                  <a:srgbClr val="ff99cc"/>
                </a:solidFill>
                <a:ln w="381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Text Box 30"/>
                <p:cNvSpPr/>
                <p:nvPr/>
              </p:nvSpPr>
              <p:spPr>
                <a:xfrm>
                  <a:off x="3132360" y="3860640"/>
                  <a:ext cx="25002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2400" spc="-1" strike="noStrike">
                      <a:solidFill>
                        <a:srgbClr val="000000"/>
                      </a:solidFill>
                      <a:latin typeface="Calibri"/>
                    </a:rPr>
                    <a:t>Офіс Програм ім. Фулбрайт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TextBox 19"/>
              <p:cNvSpPr/>
              <p:nvPr/>
            </p:nvSpPr>
            <p:spPr>
              <a:xfrm>
                <a:off x="4857840" y="2276640"/>
                <a:ext cx="2879640" cy="764280"/>
              </a:xfrm>
              <a:prstGeom prst="rect">
                <a:avLst/>
              </a:prstGeom>
              <a:solidFill>
                <a:srgbClr val="cc99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Calibri"/>
                  </a:rPr>
                  <a:t>Fulbright Science and Technology Award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9"/>
              <p:cNvSpPr/>
              <p:nvPr/>
            </p:nvSpPr>
            <p:spPr>
              <a:xfrm flipV="1">
                <a:off x="3273480" y="2997000"/>
                <a:ext cx="0" cy="788760"/>
              </a:xfrm>
              <a:prstGeom prst="line">
                <a:avLst/>
              </a:prstGeom>
              <a:ln w="7632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Line 9"/>
            <p:cNvSpPr/>
            <p:nvPr/>
          </p:nvSpPr>
          <p:spPr>
            <a:xfrm flipV="1">
              <a:off x="4356000" y="4796280"/>
              <a:ext cx="0" cy="231480"/>
            </a:xfrm>
            <a:prstGeom prst="line">
              <a:avLst/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Arial"/>
                <a:ea typeface="Arial"/>
              </a:rPr>
              <a:t>Типові вимоги до учасників прогр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1285560"/>
            <a:ext cx="7772400" cy="44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ромадянство Украї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ільне володіння англійською мово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явність певного рівня освіти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ідповідність віковим обмеженням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вернення в Україну на 2 роки післ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вершення терміну грант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Загальні особисті відомост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Проект/ ессе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ment of Purpo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Рекомендаційні ли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Транскрипти: документи про освіту із детальними додатками / витяг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*Резю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*Підтвердження володіння англійською мовою на певному рівн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Типові вимоги до пакету документ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вністю ф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інансуються Бюро у справах освіти та культури Державного департаменту СШ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CA, USDo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Здійснюються Посольством США або контракторами (в Україні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REX, American Councils, Fulbright Office/IIE, Harmony Projec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таточний відбір учасників здійснюється у Вашингтон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Calibri"/>
              </a:rPr>
              <a:t>Типові характеристики прогр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6:07:00Z</dcterms:created>
  <dc:creator>TernovskaV</dc:creator>
  <dc:description/>
  <dc:language>en-US</dc:language>
  <cp:lastModifiedBy>pben</cp:lastModifiedBy>
  <dcterms:modified xsi:type="dcterms:W3CDTF">2013-04-03T09:05:39Z</dcterms:modified>
  <cp:revision>21</cp:revision>
  <dc:subject/>
  <dc:title>Програми Уряду США  в Україні</dc:title>
</cp:coreProperties>
</file>