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dt" idx="40"/>
          </p:nvPr>
        </p:nvSpPr>
        <p:spPr>
          <a:xfrm>
            <a:off x="3900240" y="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ftr" idx="41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 type="sldNum" idx="42"/>
          </p:nvPr>
        </p:nvSpPr>
        <p:spPr>
          <a:xfrm>
            <a:off x="390024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D471-7890-446C-B843-F84E4205D5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90060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1B30-BA37-4744-B48B-4DAE8B9CB1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A7A-89F8-4FE4-96D1-74BF6CF2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F18-E220-4F18-AA64-750E6247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B6844-F9A7-4B45-B396-B023D417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350DD-38A7-4DBF-A6BA-1FD3685C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2723A-3829-47F5-9960-36537663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424B6-3843-42BF-9E75-0A9D4D3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35BA1-BFC3-4034-9C39-488B69DE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79735-5EC1-49C9-B667-851F2306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CF635-B5F4-49CF-AC55-724B0B3C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31F14-8289-4761-964D-97B0290E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79673-7757-4E26-912B-74E9A399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CD030-E708-4C53-AB69-2A8E09FC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DFD-0380-4A7A-9423-DA5A1792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AFEA4-A219-4B14-A6F1-EA70E55B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7DF78-4B26-4B1D-B6F5-85978384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8447E-93D6-4F4C-AFB3-456D4A9E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0C5CF-B1C4-4D8E-9F1A-F750827B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5D2DD-EFF4-4CAB-92A3-64209546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46C67-122A-479B-BCB7-8B87EDEA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E0725-9EE7-4DCC-9072-F95BC855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052BC-EA18-4BB7-8FB8-CEAB66C5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DEAEF-4C2F-457A-9543-ECEA8ADF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D3B19-B77E-414E-B90E-3827E7E4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0A8-552E-4C94-95D0-FA431CCD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ED229-8D11-4BE1-A210-0CBF665E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C0D4D-CCB6-461E-A83B-A645D618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82A33-43EA-4AE3-8927-19B0EF6E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2F494-3546-4044-9C22-766A9C98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EB858-D1FE-40CA-A6F8-31D3B2E5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4D88D-4174-44B3-A92F-9C1BC0B9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8C185-932A-4084-93D2-2CCEE0AF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21DFA-8E09-42F6-95BA-CD38FBD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27467-8EE6-463D-A773-A5C7B3B1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295DD-D72E-440E-8D0B-CD678DBC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5C6C-8832-49C3-8E37-2D5ACD43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18270-8144-4EC6-A722-55EDDC6D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139F8-DA1B-4527-96C4-ED245808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3E905-063A-4E66-B324-DAEFFF72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01541-EB0E-4108-81A6-DFFC6C15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D0628-CE16-4C9F-84FE-5A34F490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D0D77-3D50-42A8-9CF5-9ED48D91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E79DC-33AF-4E7E-8D6B-424DA401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6BC13-8ED8-4243-85F8-1E230B20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FDFB4-3BC8-4DA1-84DF-12C76815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ECD0D-2107-4362-96AD-9580BA8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3854-6814-4944-8F9F-DF36F38A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48CEA-BFA2-44A8-A45C-CB495538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59622-87C6-45CE-80B3-29826ABE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90C8B-A84C-44E1-B60A-D4C0728B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A3A0E-910C-474C-A9BA-E2022155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C1B5F-D088-4A61-9365-4D68C950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D9E1D-886E-4EBA-8475-CCB2EA89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C6593-59C2-496A-974C-421FF37E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4B7BE-5A25-4E2C-89D6-3BF3D98F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FC2DF-9193-4E68-80EC-8FD814AB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20CCC-10EA-496A-9AF4-7FA42978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0D63-28E4-4F3E-9419-F3C0EFCB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76B0E-7A63-42FA-A020-30EF3195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EA3FB-2226-4DA2-B9E1-98AEE3B3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074B0-AE85-43F4-8834-0EC97B13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87711-A496-41CD-B61A-5AC77772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CCFE4-808D-4019-909F-E1468C4D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B28D7-58BA-4719-A3CE-795D9A68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B7E4A-621E-43D3-8534-EC958098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F1C4-5383-44F9-BE76-0A7DCBC0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6F72-9605-4CCE-BA3E-58F48341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C553-228B-42BF-A195-80929148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8618-B02D-4D56-9EF4-5449008F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80B-4A52-4E9A-A088-7429507A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2586-652F-48A7-AE9E-76B3DE5E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B895-229B-4AF2-BAFE-DBA23876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251D-B06D-44A1-B07B-02A7EDD9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140F-4BDA-4D88-A999-09DF7121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D01B-8439-43D4-AEBD-489E96D7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408B-06CD-46B3-BD4B-D9911BC3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D38C0-9188-46CD-B442-F52D7B8E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1DFA-2C9C-4DAB-AE96-78A5C298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518E-F943-4CDF-9AC2-D8CA9E1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1561-5537-4B34-8189-09051F86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836-857A-4BB4-9B96-EC526C06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E529-C4BC-49A7-B2DA-EDD9B58D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BB2D-0CD1-4860-B929-FCB8D7DA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C2DD5-40FC-4A2E-95E0-EFA46001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391C-9444-4138-B738-54D41C37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B347-D3C4-4B9C-876E-5F6DCDF4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9844-8CB1-4C71-AD53-6FC9E76E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A341-5703-49F5-BF88-0AD02006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B7E71-7683-492F-9CE1-63CF048F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70CB8-B875-4434-8379-7DD7E53A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DF55F-8753-4C18-B55E-272CC6A5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559-49F6-4F44-9129-9099C03A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6975-58A5-413A-B5A0-30E1429E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19FFF-C2BF-4F89-BD13-59DAF938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7C6F0-3B9A-4864-8B60-3463276B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D27D-D5D4-4F9E-9870-4201EC84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BEAF-EE51-4C58-9D75-0E88ADD1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3D35B-8AAA-449F-8759-FE277F24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743C-F987-4227-8295-98E307E6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9395F-3043-4E62-9A54-EC94F02D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B7D65-CC6B-40A4-8919-AC11D908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6E939-79F2-47E4-AE76-B31A22F4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176-B54E-4F1D-A10D-B02D3E4F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E1F79-00E5-4CD1-A46C-78596FF6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0E00-8C13-45B3-83AD-CBB2B635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2E7AE-6A3E-40D2-AE88-D8835F0A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FDDC5-50CC-414E-B574-D5C8C374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6591F-4068-4B29-8A83-DCF2F23A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63E76-C885-457C-BD53-E1009EE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2239C-D2BD-4919-8A4C-C1C224DF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F53A-7C1A-48A0-A0F8-F6669530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74EF6-FB4B-4456-BD1A-D7CF7314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D5F0F-839B-4416-B01B-64C998FA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8CA-57A2-4210-A5BD-18977005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B9A72-0907-4317-BA36-7C438783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69FFF-278D-4CF2-9EBF-2FC399B9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13F79-FFC9-41A0-8276-0B9D6411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C613D-0261-4FE0-B826-004E2C38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D99E4-8D94-4738-8C28-62DE8DB4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74F0A-3F4D-44F5-ACAC-09B4B962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0C859-E9A1-4C61-984D-18223237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68542-0E93-405B-8D55-0A468919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A4EC3-DD3F-4777-8076-4AA20E55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14FAF-D592-4327-B22E-A7F8D7EE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D2C-8AE7-4802-AB90-9FDDB167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B142B-D13B-4BCA-BBE7-1F53FB8B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20EEB-23AD-46B7-83BA-E094602C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83C8B-50E9-4331-9F53-D389FE39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6372A-52BC-4C5D-9D1D-C716576D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24CFB-8DB2-49A8-A330-5A056B7A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3042F-9DBB-4385-B96C-B33D499F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84A9A-8C6B-4CF5-9BB5-5E7719E7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2ED98-37E6-4F3F-A086-9B66E0EE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423B-F63A-4739-A736-B05FFE3C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D3549-AE17-45A8-A3FB-827F784C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6AB-D203-4A51-997A-4C355CEA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40AEE-44E5-4FB2-B28D-BD42A8EB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6BEC2-A19B-4564-A136-15CA514C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2FC99-FCAF-48A6-9BB1-C97B48DC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D5C4A-6AC6-4763-83EC-AF6A4073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7B05B-9245-48EA-913B-B420A40B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4A66E-EA80-415A-8B78-86A88AEC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073A3-D0C8-4EFF-8657-EED1F4FB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46016-7913-4B97-8839-42352BCB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D09AB-9428-4F6D-ACC4-0EDC92A0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545EF-6059-4F6A-877C-F136C8F1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DB6-A8CC-4037-83F8-1FD35EA5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357BD-B5D9-4F68-99ED-7B7E85C2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A503B-3CBB-4E9A-910C-24DFCA2B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D4C7C-7FA3-408C-BC69-B559C44E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C3409-C416-4466-90E3-38EA0734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2B3EC-303D-4554-B16E-5E927F21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D77AB-CF06-48FB-8185-0EDDADC5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771FC-2982-4A8D-8EC2-4616FA70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46F52-B8DB-4FB3-8886-F464D7C0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F5139-422A-4062-9967-6DB278B1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E824B-58A0-4C42-9A62-8F25379C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.S. Embassy 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0C3C-4CB9-4409-AAF9-A4D891DD4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4EF5-3C68-4161-A2A7-29F09A9B2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.S. Embassy 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.S. Embassy 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04D3-5E00-4F39-ADDC-F3D52DA88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B3B0-436E-442C-AF93-0F4F3577D5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.S. Embassy 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80000"/>
              </a:lnSpc>
              <a:spcBef>
                <a:spcPts val="34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lnSpc>
                <a:spcPct val="80000"/>
              </a:lnSpc>
              <a:spcBef>
                <a:spcPts val="34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/29/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5D40-AAC8-43E6-9377-1AC4F8AF29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.S. Embassy 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BD81-185F-45B6-AEE1-C11B7D24F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.S. Embassy 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75F3-AE63-4C40-A1DD-5A8CF92105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.S. Embassy 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32EB-EC08-4BC3-B1DC-1ABC4C7E5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.S. Embassy 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E75B-A895-4B46-A661-3BF065584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.S. Embassy 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8951-6ECF-4639-97C6-49071F0677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.S. Embassy 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318F-0E6F-4A41-8244-1ABFA6846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.S. Embassy 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1FEA-FC7C-4E92-89E7-BC3C364AC9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9C5E-22F6-4CF4-8BEF-92C607A7F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.S. Embassy 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6" name="Object 4"/>
          <p:cNvGraphicFramePr/>
          <p:nvPr/>
        </p:nvGraphicFramePr>
        <p:xfrm>
          <a:off x="3809880" y="355680"/>
          <a:ext cx="16002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55680"/>
                    <a:ext cx="16002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00AB-D0E1-472B-8394-51351525816B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0" y="1905120"/>
            <a:ext cx="91440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00099"/>
                </a:solidFill>
                <a:uFillTx/>
                <a:latin typeface="Georgia"/>
              </a:rPr>
              <a:t>Програми обміну</a:t>
            </a:r>
            <a:r>
              <a:rPr b="1" lang="en-US" sz="5000" spc="-1" strike="noStrike" u="sng">
                <a:solidFill>
                  <a:srgbClr val="000099"/>
                </a:solidFill>
                <a:uFillTx/>
                <a:latin typeface="Georgia"/>
              </a:rPr>
              <a:t> </a:t>
            </a:r>
            <a:r>
              <a:rPr b="1" lang="uk-UA" sz="5000" spc="-1" strike="noStrike" u="sng">
                <a:solidFill>
                  <a:srgbClr val="000099"/>
                </a:solidFill>
                <a:uFillTx/>
                <a:latin typeface="Georgia"/>
              </a:rPr>
              <a:t>та навчання</a:t>
            </a:r>
            <a:r>
              <a:rPr b="1" lang="en-US" sz="5000" spc="-1" strike="noStrike" u="sng">
                <a:solidFill>
                  <a:srgbClr val="000099"/>
                </a:solidFill>
                <a:uFillTx/>
                <a:latin typeface="Georgia"/>
              </a:rPr>
              <a:t> </a:t>
            </a:r>
            <a:r>
              <a:rPr b="1" lang="uk-UA" sz="5000" spc="-1" strike="noStrike" u="sng">
                <a:solidFill>
                  <a:srgbClr val="000099"/>
                </a:solidFill>
                <a:uFillTx/>
                <a:latin typeface="Georgia"/>
              </a:rPr>
              <a:t>за</a:t>
            </a:r>
            <a:r>
              <a:rPr b="1" lang="en-US" sz="5000" spc="-1" strike="noStrike" u="sng">
                <a:solidFill>
                  <a:srgbClr val="000099"/>
                </a:solidFill>
                <a:uFillTx/>
                <a:latin typeface="Georgia"/>
              </a:rPr>
              <a:t> </a:t>
            </a:r>
            <a:r>
              <a:rPr b="1" lang="uk-UA" sz="5000" spc="-1" strike="noStrike" u="sng">
                <a:solidFill>
                  <a:srgbClr val="000099"/>
                </a:solidFill>
                <a:uFillTx/>
                <a:latin typeface="Georgia"/>
              </a:rPr>
              <a:t>кордоном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1" name="Picture 7" descr="http://www.ip.wsu.edu/education_abroad/images/Guanajuato.MXGroup.jpg"/>
          <p:cNvPicPr/>
          <p:nvPr/>
        </p:nvPicPr>
        <p:blipFill>
          <a:blip r:embed="rId3"/>
          <a:stretch/>
        </p:blipFill>
        <p:spPr>
          <a:xfrm>
            <a:off x="2666880" y="3200400"/>
            <a:ext cx="38102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Georgia"/>
              </a:rPr>
              <a:t>Програма догляду за дітьми (</a:t>
            </a:r>
            <a:r>
              <a:rPr b="1" lang="en-US" sz="3000" spc="-1" strike="noStrike">
                <a:solidFill>
                  <a:srgbClr val="000099"/>
                </a:solidFill>
                <a:latin typeface="Georgia"/>
              </a:rPr>
              <a:t>Au Pair</a:t>
            </a: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)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84" name="Content Placeholder 20" descr="Picture1.jpg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5181480" y="1447920"/>
            <a:ext cx="3733920" cy="2489040"/>
          </a:xfrm>
          <a:prstGeom prst="rect">
            <a:avLst/>
          </a:prstGeom>
          <a:ln w="0">
            <a:noFill/>
          </a:ln>
        </p:spPr>
      </p:pic>
      <p:sp>
        <p:nvSpPr>
          <p:cNvPr id="785" name="Content Placeholder 2"/>
          <p:cNvSpPr/>
          <p:nvPr/>
        </p:nvSpPr>
        <p:spPr>
          <a:xfrm>
            <a:off x="533520" y="1828800"/>
            <a:ext cx="40417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Content Placeholder 2"/>
          <p:cNvSpPr/>
          <p:nvPr/>
        </p:nvSpPr>
        <p:spPr>
          <a:xfrm>
            <a:off x="380880" y="1447920"/>
            <a:ext cx="40417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ід час участі в програмі Au Pair іноземні громадяни віком від 18 до 26 років беруть безпосередню участь у житті сім'ї,  доглядаючи за дітьми протягом 12 місяців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7" name="Picture 24" descr="http://www.smh.com.au/ffximage/2008/08/09/aupair_wideweb__470x322,0.jpg"/>
          <p:cNvPicPr/>
          <p:nvPr/>
        </p:nvPicPr>
        <p:blipFill>
          <a:blip r:embed="rId2"/>
          <a:stretch/>
        </p:blipFill>
        <p:spPr>
          <a:xfrm>
            <a:off x="228600" y="3733920"/>
            <a:ext cx="3886200" cy="2590560"/>
          </a:xfrm>
          <a:prstGeom prst="rect">
            <a:avLst/>
          </a:prstGeom>
          <a:ln w="0">
            <a:noFill/>
          </a:ln>
        </p:spPr>
      </p:pic>
      <p:sp>
        <p:nvSpPr>
          <p:cNvPr id="788" name="Content Placeholder 2"/>
          <p:cNvSpPr/>
          <p:nvPr/>
        </p:nvSpPr>
        <p:spPr>
          <a:xfrm>
            <a:off x="4876920" y="4191120"/>
            <a:ext cx="4041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Догляд за дітьми обмежений до 10 годин на день і 45 годин на тижден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Georgia"/>
              </a:rPr>
              <a:t>Що я маю знати про візи типу </a:t>
            </a:r>
            <a:r>
              <a:rPr b="1" lang="en-US" sz="3600" spc="-1" strike="noStrike">
                <a:solidFill>
                  <a:srgbClr val="000099"/>
                </a:solidFill>
                <a:latin typeface="Georgia"/>
              </a:rPr>
              <a:t>J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Для того, щоб стати учасником програми обміну, вам треба звернутися до американської спонсорської організації і отримати форму DS-2019. Однак американська спонсорська організація скоріше за все вас перенаправить  до свого партнера в Україні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just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Дати початку і закінчення програми визначають період, коли Ви можете почати і коли Ви повинні закінчити програму обміну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ни вказані у Вашій формі DS-2019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92480" indent="-245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45520" indent="-2455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ісля завершення програми обміну учасники можуть перебувати на території США до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30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днів.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Цей додатковий дозволений період перебування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grace period)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надається для подорожуванн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just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Іноземні студенти, які отримують</a:t>
            </a:r>
            <a:r>
              <a:rPr b="1" lang="en-US" sz="30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вищу освіту в США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4" name="Footer Placeholder 3"/>
          <p:cNvSpPr/>
          <p:nvPr/>
        </p:nvSpPr>
        <p:spPr>
          <a:xfrm>
            <a:off x="2895480" y="64008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Footer Placeholder 4"/>
          <p:cNvSpPr/>
          <p:nvPr/>
        </p:nvSpPr>
        <p:spPr>
          <a:xfrm>
            <a:off x="152280" y="6400800"/>
            <a:ext cx="3581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6" name="Content Placeholder 5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80920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7" name=""/>
          <p:cNvGraphicFramePr/>
          <p:nvPr/>
        </p:nvGraphicFramePr>
        <p:xfrm>
          <a:off x="5867280" y="1523880"/>
          <a:ext cx="2819520" cy="49086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ік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ількість і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земних студентів, які отримали візи типів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, M, 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2712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7/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0 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2712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8/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4 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2712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9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5 2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2676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0/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6 0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2712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0 6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800" marR="10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Найпопулярніші сфери навчання для іноземних студентів у США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799" name="Content Placeholder 5"/>
          <p:cNvGraphicFramePr/>
          <p:nvPr/>
        </p:nvGraphicFramePr>
        <p:xfrm>
          <a:off x="237960" y="1827360"/>
          <a:ext cx="855828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1827360"/>
                    <a:ext cx="855828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Footer Placeholder 3"/>
          <p:cNvSpPr/>
          <p:nvPr/>
        </p:nvSpPr>
        <p:spPr>
          <a:xfrm>
            <a:off x="2895480" y="64008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Footer Placeholder 4"/>
          <p:cNvSpPr/>
          <p:nvPr/>
        </p:nvSpPr>
        <p:spPr>
          <a:xfrm>
            <a:off x="152280" y="6400800"/>
            <a:ext cx="3581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Date Placeholder 4"/>
          <p:cNvSpPr/>
          <p:nvPr/>
        </p:nvSpPr>
        <p:spPr>
          <a:xfrm>
            <a:off x="45720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Slide Number Placeholder 5"/>
          <p:cNvSpPr/>
          <p:nvPr/>
        </p:nvSpPr>
        <p:spPr>
          <a:xfrm>
            <a:off x="65530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530D-B488-48D8-BBB1-280A9231D1A3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Процедура звернення по віз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0520" y="1676160"/>
            <a:ext cx="85042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ризначте співбесіду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через сайт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www.ustraveldocs.com/ua 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чи зателефонувавши за номером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(044) 383-8066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Заповніть візову анкету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 DS-160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 режимі онлайн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https://ceac.state.gov/genniv/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Сплатіть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$160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за розгляд документів на отримання візи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 гривневому еквіваленті у відділенні Райффайзен Банку в Україні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Сплатіть збір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EVIS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Збір сплачувати не потрібно, якщо Ви берете участь у програмі обміну, що фінансується Урядом США та має номер, що починається з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-1, G-2, G-3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чи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G-7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7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 день візової співбесіди, Вам знадобляться наведені нижче документи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Plus 5"/>
          <p:cNvSpPr/>
          <p:nvPr/>
        </p:nvSpPr>
        <p:spPr>
          <a:xfrm>
            <a:off x="2438280" y="350532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349560 h 914400"/>
              <a:gd name="textAreaBottom" fmla="*/ 56484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close/>
              </a:path>
            </a:pathLst>
          </a:custGeom>
          <a:solidFill>
            <a:srgbClr val="c00000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TextBox 8"/>
          <p:cNvSpPr/>
          <p:nvPr/>
        </p:nvSpPr>
        <p:spPr>
          <a:xfrm>
            <a:off x="228600" y="4724280"/>
            <a:ext cx="22096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eorgia"/>
              </a:rPr>
              <a:t>Дійсний закордонний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eorgia"/>
              </a:rPr>
              <a:t>паспорт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Date Placeholder 10"/>
          <p:cNvSpPr/>
          <p:nvPr/>
        </p:nvSpPr>
        <p:spPr>
          <a:xfrm>
            <a:off x="45720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2" name="Picture 254" descr="Ukrainian passport"/>
          <p:cNvPicPr/>
          <p:nvPr/>
        </p:nvPicPr>
        <p:blipFill>
          <a:blip r:embed="rId1"/>
          <a:stretch/>
        </p:blipFill>
        <p:spPr>
          <a:xfrm>
            <a:off x="609480" y="2133720"/>
            <a:ext cx="1774800" cy="2361960"/>
          </a:xfrm>
          <a:prstGeom prst="rect">
            <a:avLst/>
          </a:prstGeom>
          <a:ln w="0">
            <a:noFill/>
          </a:ln>
        </p:spPr>
      </p:pic>
      <p:sp>
        <p:nvSpPr>
          <p:cNvPr id="813" name="Plus 5"/>
          <p:cNvSpPr/>
          <p:nvPr/>
        </p:nvSpPr>
        <p:spPr>
          <a:xfrm>
            <a:off x="5638680" y="342900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349560 h 914400"/>
              <a:gd name="textAreaBottom" fmla="*/ 56484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close/>
              </a:path>
            </a:pathLst>
          </a:custGeom>
          <a:solidFill>
            <a:srgbClr val="c00000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Процедура звернення по віз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5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286000" cy="259092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16"/>
          <p:cNvSpPr/>
          <p:nvPr/>
        </p:nvSpPr>
        <p:spPr>
          <a:xfrm>
            <a:off x="3200400" y="4724280"/>
            <a:ext cx="2438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eorgia"/>
              </a:rPr>
              <a:t>Сторінка підтвердження візової анкети</a:t>
            </a: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lang="uk-UA" sz="1700" spc="-1" strike="noStrike">
                <a:solidFill>
                  <a:srgbClr val="000000"/>
                </a:solidFill>
                <a:latin typeface="Georgia"/>
              </a:rPr>
              <a:t>форма </a:t>
            </a: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DS-160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2116080" cy="27432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8"/>
          <p:cNvSpPr/>
          <p:nvPr/>
        </p:nvSpPr>
        <p:spPr>
          <a:xfrm>
            <a:off x="6248520" y="4657680"/>
            <a:ext cx="2666880" cy="20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eorgia"/>
                <a:ea typeface="Tahoma"/>
              </a:rPr>
              <a:t>Форма </a:t>
            </a:r>
            <a:r>
              <a:rPr b="1" lang="en-US" sz="1700" spc="-1" strike="noStrike">
                <a:solidFill>
                  <a:srgbClr val="000000"/>
                </a:solidFill>
                <a:latin typeface="Georgia"/>
                <a:ea typeface="Tahoma"/>
              </a:rPr>
              <a:t>I-20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ff0000"/>
                </a:solidFill>
                <a:latin typeface="Georgia"/>
                <a:ea typeface="Tahoma"/>
              </a:rPr>
              <a:t>ЧИ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eorgia"/>
                <a:ea typeface="Tahoma"/>
              </a:rPr>
              <a:t>Форма </a:t>
            </a:r>
            <a:r>
              <a:rPr b="1" lang="en-US" sz="1700" spc="-1" strike="noStrike">
                <a:solidFill>
                  <a:srgbClr val="000000"/>
                </a:solidFill>
                <a:latin typeface="Georgia"/>
                <a:ea typeface="Tahoma"/>
              </a:rPr>
              <a:t>DS-2019 +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eorgia"/>
                <a:ea typeface="Tahoma"/>
              </a:rPr>
              <a:t>Підтвердження медичного страхування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Georgia"/>
              </a:rPr>
              <a:t>Процедура звернення по візу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821" name="Content Placeholder 8" descr="111.JPG"/>
          <p:cNvPicPr/>
          <p:nvPr/>
        </p:nvPicPr>
        <p:blipFill>
          <a:blip r:embed="rId1"/>
          <a:stretch/>
        </p:blipFill>
        <p:spPr>
          <a:xfrm>
            <a:off x="457200" y="1447920"/>
            <a:ext cx="4419720" cy="495288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 txBox="1"/>
          <p:nvPr/>
        </p:nvSpPr>
        <p:spPr>
          <a:xfrm>
            <a:off x="5105520" y="1523520"/>
            <a:ext cx="3657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Форма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S-160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еред тим, як заповнювати візову анкету, ознайомтесь з інструкцією по заповненню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ереконайтеся, що Ви внесли інформацію в анкету вірн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Зберігайте анкету кожні 15 хвилин або частіш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3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0880" y="175212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 залежності від типу візи, за якою Ви звертаєтесь, можуть знадобитися й інші документи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Будь ласка, перевірте список необхідних документів на веб-сайті Посольства США: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http://ukraine.usembassy.gov/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25" name="Picture 5" descr="docs.bmp"/>
          <p:cNvPicPr/>
          <p:nvPr/>
        </p:nvPicPr>
        <p:blipFill>
          <a:blip r:embed="rId1"/>
          <a:stretch/>
        </p:blipFill>
        <p:spPr>
          <a:xfrm>
            <a:off x="5384880" y="1752480"/>
            <a:ext cx="3301920" cy="1752840"/>
          </a:xfrm>
          <a:prstGeom prst="rect">
            <a:avLst/>
          </a:prstGeom>
          <a:ln w="0">
            <a:noFill/>
          </a:ln>
        </p:spPr>
      </p:pic>
      <p:sp>
        <p:nvSpPr>
          <p:cNvPr id="826" name="Slide Number Placeholder 6"/>
          <p:cNvSpPr/>
          <p:nvPr/>
        </p:nvSpPr>
        <p:spPr>
          <a:xfrm>
            <a:off x="6477120" y="662004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EB12-EA02-4A6D-B9F1-7E1B49BF58DD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Процедура звернення по віз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457200" y="3962520"/>
            <a:ext cx="8381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и можете принести з собою на співбесіду додаткові документи, які Ви вважаєте важливими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Наприклад, лист з навчального закладу/від роботодавця,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опередній закордонний паспорт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тощ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Корисні посилання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ukraine.usembassy.gov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осольство США в Україн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www.ice.gov/sevis/ -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Департамент внутрішньої безпеки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рограми обміну і навчанн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ww.educationusa.info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юро з питань освіти та культури США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ww.ed.gov 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Департамент освіти в СШ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ww.communitycollegeusa.com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Американська асоціація коледжі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ww.edupass.org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eduPASS,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Довідник з питань навчання в США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ww.iie.org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Інститут міжнародної осві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j1visa.state.gov  -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сайт про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J-1 візи для учасників програм обмін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2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00099"/>
                </a:solidFill>
                <a:latin typeface="Georgia"/>
              </a:rPr>
              <a:t>Зміст</a:t>
            </a:r>
            <a:endParaRPr b="0" lang="en-US" sz="4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Загальна інформація (огляд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Навчання за кордоном. Візи типу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 та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рограми обміну в СШ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Що я маю знати про візи типу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роцедура звернення по візу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Корисні посиланн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Georgia"/>
              </a:rPr>
              <a:t>1. </a:t>
            </a: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Загальна інформація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04920" y="1371600"/>
            <a:ext cx="85010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Освіта - одна з найбільш розвинутих галузей в США. Іноземні студенти інвестували понад $ 20 млрд. в економіку США за 2009 – 2010 академічий рік.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67%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іноземних студентів отримують більшу частину коштів для фінансування навчання з джерел поза межами СШ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Іноземні студенти повертаються з набутими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цінними навичками і знаннями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і роблять свій внесок у розвиток академічної сфери, беручи участь у наукових дослідження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Потік іноземних студентів також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аповнює культурні прогалини, сприяє культурній взаємодії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і робить свій внесок у глобальну обізнаність, як знак доброї волі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В 2012 фінансовому році Державний департамент видав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715 207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віз для студентів, учасників програм обміну та професійного навчання (F, M і J візи)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 останні п'ять років в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країні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видано понад 3000 студентських віз категорії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1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Загальна інформація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04560" y="1371240"/>
            <a:ext cx="5105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Державний департамент здійснив ряд кроків для прискорення та підвищення ефективності процедури  звернення за  студентською візою, щоб кожен аплікант зміг почати програму навчання у встановлений термін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Всі посольства і консульства США надають пріоритет в призначенні візових співбесід для студентів та учасників програм обмін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Період очікування співбесіди для отримання студентської візи становить 5 календарних дні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0" name="Picture 6" descr="C:\Documents and Settings\ShygirtVY\My Documents\My Pictures\US visa 1.JPG"/>
          <p:cNvPicPr/>
          <p:nvPr/>
        </p:nvPicPr>
        <p:blipFill>
          <a:blip r:embed="rId1"/>
          <a:stretch/>
        </p:blipFill>
        <p:spPr>
          <a:xfrm>
            <a:off x="5410080" y="160020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741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en-US" sz="3000" spc="-1" strike="noStrike">
                <a:solidFill>
                  <a:srgbClr val="000099"/>
                </a:solidFill>
                <a:latin typeface="Georgia"/>
              </a:rPr>
              <a:t>2</a:t>
            </a:r>
            <a:r>
              <a:rPr b="1" lang="en-US" sz="3000" spc="-1" strike="noStrike">
                <a:solidFill>
                  <a:srgbClr val="000099"/>
                </a:solidFill>
                <a:latin typeface="Georgia"/>
              </a:rPr>
              <a:t>. </a:t>
            </a: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Навчання за кордоном. Візи типу </a:t>
            </a:r>
            <a:r>
              <a:rPr b="1" lang="en-US" sz="3000" spc="-1" strike="noStrike">
                <a:solidFill>
                  <a:srgbClr val="000099"/>
                </a:solidFill>
                <a:latin typeface="Georgia"/>
              </a:rPr>
              <a:t>F </a:t>
            </a: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та </a:t>
            </a:r>
            <a:r>
              <a:rPr b="1" lang="en-US" sz="3000" spc="-1" strike="noStrike">
                <a:solidFill>
                  <a:srgbClr val="000099"/>
                </a:solidFill>
                <a:latin typeface="Georgia"/>
              </a:rPr>
              <a:t>M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01680" y="1527120"/>
            <a:ext cx="56419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ізи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Надаються для академічного навчання в коледжі, університеті, семінарії, консерваторії, старших класах середньої школи, початковій школі чи іншому навчальному закладі, або для участі в програмі мовної підготов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ізи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Надаються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 неакадемічного або професійно-технічного навчання в професійно-технічних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або інших неакадемічних установах (для пілотів, навчання танцям, мистецтву 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4" name="Picture 2" descr="http://www.bristol.ac.uk/lifelong/lifelong-images/qualification.jpg"/>
          <p:cNvPicPr/>
          <p:nvPr/>
        </p:nvPicPr>
        <p:blipFill>
          <a:blip r:embed="rId1"/>
          <a:stretch/>
        </p:blipFill>
        <p:spPr>
          <a:xfrm>
            <a:off x="6019920" y="2082960"/>
            <a:ext cx="2819160" cy="3135240"/>
          </a:xfrm>
          <a:prstGeom prst="rect">
            <a:avLst/>
          </a:prstGeom>
          <a:ln w="0">
            <a:noFill/>
          </a:ln>
        </p:spPr>
      </p:pic>
      <p:sp>
        <p:nvSpPr>
          <p:cNvPr id="745" name="Title 1"/>
          <p:cNvSpPr/>
          <p:nvPr/>
        </p:nvSpPr>
        <p:spPr>
          <a:xfrm>
            <a:off x="1295280" y="1523880"/>
            <a:ext cx="6324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Типи ві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Навчання за кордоном. Візи типу </a:t>
            </a:r>
            <a:r>
              <a:rPr b="1" lang="en-US" sz="3000" spc="-1" strike="noStrike">
                <a:solidFill>
                  <a:srgbClr val="000099"/>
                </a:solidFill>
                <a:latin typeface="Georgia"/>
              </a:rPr>
              <a:t>F </a:t>
            </a:r>
            <a:r>
              <a:rPr b="1" lang="uk-UA" sz="3000" spc="-1" strike="noStrike">
                <a:solidFill>
                  <a:srgbClr val="000099"/>
                </a:solidFill>
                <a:latin typeface="Georgia"/>
              </a:rPr>
              <a:t>та </a:t>
            </a:r>
            <a:r>
              <a:rPr b="1" lang="en-US" sz="3000" spc="-1" strike="noStrike">
                <a:solidFill>
                  <a:srgbClr val="000099"/>
                </a:solidFill>
                <a:latin typeface="Georgia"/>
              </a:rPr>
              <a:t>M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Студенти можуть звертатися за візою за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120 днів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до початку їх навчання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удентам дозволено в’їжджати до США протягом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30-ти дні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до дати початку навчання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Студенти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ізи типу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F)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ісля закінчення навчання чи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актики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ають до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60 днів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для подорожування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Студенти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ізи типу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)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ожуть залишатися в США до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30 днів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ісля закінчення навчання, але повн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й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період їх перебування в США не повинен перевищувати 1 рік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2666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Georgia"/>
              </a:rPr>
              <a:t>3. </a:t>
            </a:r>
            <a:r>
              <a:rPr b="1" lang="uk-UA" sz="2400" spc="-1" strike="noStrike">
                <a:solidFill>
                  <a:srgbClr val="000099"/>
                </a:solidFill>
                <a:latin typeface="Georgia"/>
              </a:rPr>
              <a:t>Програми обміну США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361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Ці програми сприяють покращенню взаєморозуміння між країнами шляхом підвищення обізнаності серед населення США про інші культури та допомагають іноземним учасникам розширити свої знання про американську культур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047760" y="762120"/>
            <a:ext cx="5638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Slide Number Placeholder 4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589D-E751-455E-8050-BD2D88A10509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Oval 7"/>
          <p:cNvSpPr/>
          <p:nvPr/>
        </p:nvSpPr>
        <p:spPr>
          <a:xfrm>
            <a:off x="4800600" y="2743200"/>
            <a:ext cx="2286000" cy="1066680"/>
          </a:xfrm>
          <a:prstGeom prst="ellipse">
            <a:avLst/>
          </a:prstGeom>
          <a:solidFill>
            <a:srgbClr val="a9432b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eorgia"/>
              </a:rPr>
              <a:t>Програми обмін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Oval 8"/>
          <p:cNvSpPr/>
          <p:nvPr/>
        </p:nvSpPr>
        <p:spPr>
          <a:xfrm>
            <a:off x="2971800" y="762120"/>
            <a:ext cx="1447920" cy="990360"/>
          </a:xfrm>
          <a:prstGeom prst="ellipse">
            <a:avLst/>
          </a:prstGeom>
          <a:solidFill>
            <a:srgbClr val="edc1b6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Програма стажування  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Intern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Oval 9"/>
          <p:cNvSpPr/>
          <p:nvPr/>
        </p:nvSpPr>
        <p:spPr>
          <a:xfrm>
            <a:off x="5029200" y="1600200"/>
            <a:ext cx="1828800" cy="1066680"/>
          </a:xfrm>
          <a:prstGeom prst="ellipse">
            <a:avLst/>
          </a:prstGeom>
          <a:solidFill>
            <a:srgbClr val="edc1b6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Програма вожатих у таборах 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Camp Counselor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Oval 10"/>
          <p:cNvSpPr/>
          <p:nvPr/>
        </p:nvSpPr>
        <p:spPr>
          <a:xfrm>
            <a:off x="6019920" y="533520"/>
            <a:ext cx="1828800" cy="838080"/>
          </a:xfrm>
          <a:prstGeom prst="ellipse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Студент коледжу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/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 університ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Oval 11"/>
          <p:cNvSpPr/>
          <p:nvPr/>
        </p:nvSpPr>
        <p:spPr>
          <a:xfrm>
            <a:off x="2971800" y="1828800"/>
            <a:ext cx="2057400" cy="1066680"/>
          </a:xfrm>
          <a:prstGeom prst="ellipse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Програма для представників уряду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Government Visitor 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Oval 12"/>
          <p:cNvSpPr/>
          <p:nvPr/>
        </p:nvSpPr>
        <p:spPr>
          <a:xfrm>
            <a:off x="4495680" y="457200"/>
            <a:ext cx="1524240" cy="1066680"/>
          </a:xfrm>
          <a:prstGeom prst="ellipse">
            <a:avLst/>
          </a:prstGeom>
          <a:solidFill>
            <a:srgbClr val="edc1b6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Програма догляду за дітьми  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Au Pair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Oval 13"/>
          <p:cNvSpPr/>
          <p:nvPr/>
        </p:nvSpPr>
        <p:spPr>
          <a:xfrm>
            <a:off x="3048120" y="4191120"/>
            <a:ext cx="1523880" cy="1066680"/>
          </a:xfrm>
          <a:prstGeom prst="ellipse">
            <a:avLst/>
          </a:prstGeom>
          <a:solidFill>
            <a:srgbClr val="edc1b6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Програма тренінгу 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Trainee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Oval 14"/>
          <p:cNvSpPr/>
          <p:nvPr/>
        </p:nvSpPr>
        <p:spPr>
          <a:xfrm>
            <a:off x="4572000" y="3886200"/>
            <a:ext cx="1523880" cy="1066680"/>
          </a:xfrm>
          <a:prstGeom prst="ellipse">
            <a:avLst/>
          </a:prstGeom>
          <a:solidFill>
            <a:srgbClr val="edc1b6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Програма для вчителів середніх шкіл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Teacher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Oval 15"/>
          <p:cNvSpPr/>
          <p:nvPr/>
        </p:nvSpPr>
        <p:spPr>
          <a:xfrm>
            <a:off x="6019920" y="4343400"/>
            <a:ext cx="2209680" cy="1066680"/>
          </a:xfrm>
          <a:prstGeom prst="ellipse">
            <a:avLst/>
          </a:prstGeom>
          <a:solidFill>
            <a:srgbClr val="edc1b6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Літня програма студентського обміну 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Summer Work/Travel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Oval 16"/>
          <p:cNvSpPr/>
          <p:nvPr/>
        </p:nvSpPr>
        <p:spPr>
          <a:xfrm>
            <a:off x="7162920" y="3352680"/>
            <a:ext cx="1752480" cy="1067040"/>
          </a:xfrm>
          <a:prstGeom prst="ellipse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Програма для спеціалістів 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Specialist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Oval 17"/>
          <p:cNvSpPr/>
          <p:nvPr/>
        </p:nvSpPr>
        <p:spPr>
          <a:xfrm>
            <a:off x="6781680" y="1295280"/>
            <a:ext cx="2210040" cy="914400"/>
          </a:xfrm>
          <a:prstGeom prst="ellipse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Короткострокова дослідницька програма 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 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Short-term Scholar 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18"/>
          <p:cNvSpPr/>
          <p:nvPr/>
        </p:nvSpPr>
        <p:spPr>
          <a:xfrm>
            <a:off x="7086600" y="5410080"/>
            <a:ext cx="1828800" cy="1067040"/>
          </a:xfrm>
          <a:prstGeom prst="ellipse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Програма для наукових співробітників 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Research Scholar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Oval 19"/>
          <p:cNvSpPr/>
          <p:nvPr/>
        </p:nvSpPr>
        <p:spPr>
          <a:xfrm>
            <a:off x="2971800" y="3048120"/>
            <a:ext cx="1752480" cy="1066680"/>
          </a:xfrm>
          <a:prstGeom prst="ellipse">
            <a:avLst/>
          </a:prstGeom>
          <a:solidFill>
            <a:srgbClr val="edc1b6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Програма для закордонних лікарів 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Alien Physician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Oval 20"/>
          <p:cNvSpPr/>
          <p:nvPr/>
        </p:nvSpPr>
        <p:spPr>
          <a:xfrm>
            <a:off x="4800600" y="5334120"/>
            <a:ext cx="2209680" cy="1066680"/>
          </a:xfrm>
          <a:prstGeom prst="ellipse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Програма для іноземних відвідувачів 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International Visitor 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Oval 21"/>
          <p:cNvSpPr/>
          <p:nvPr/>
        </p:nvSpPr>
        <p:spPr>
          <a:xfrm>
            <a:off x="2971800" y="5257800"/>
            <a:ext cx="1752480" cy="1066680"/>
          </a:xfrm>
          <a:prstGeom prst="ellipse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Програма для викладачів 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Professor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Oval 22"/>
          <p:cNvSpPr/>
          <p:nvPr/>
        </p:nvSpPr>
        <p:spPr>
          <a:xfrm>
            <a:off x="6858000" y="2286000"/>
            <a:ext cx="2133720" cy="914400"/>
          </a:xfrm>
          <a:prstGeom prst="ellipse">
            <a:avLst/>
          </a:prstGeom>
          <a:solidFill>
            <a:srgbClr val="edc1b6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Georgia"/>
              </a:rPr>
              <a:t>Програма для учнів середніх шкіл  (</a:t>
            </a:r>
            <a:r>
              <a:rPr b="1" lang="en-US" sz="1100" spc="-1" strike="noStrike">
                <a:solidFill>
                  <a:srgbClr val="000066"/>
                </a:solidFill>
                <a:latin typeface="Georgia"/>
              </a:rPr>
              <a:t>Student, Secondary School</a:t>
            </a:r>
            <a:r>
              <a:rPr b="1" lang="uk-UA" sz="1100" spc="-1" strike="noStrike">
                <a:solidFill>
                  <a:srgbClr val="000066"/>
                </a:solidFill>
                <a:latin typeface="Georgi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8" descr=""/>
          <p:cNvPicPr/>
          <p:nvPr/>
        </p:nvPicPr>
        <p:blipFill>
          <a:blip r:embed="rId1"/>
          <a:stretch/>
        </p:blipFill>
        <p:spPr>
          <a:xfrm>
            <a:off x="1143000" y="4495680"/>
            <a:ext cx="5867280" cy="178128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1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Georgia"/>
              </a:rPr>
              <a:t>Літня програма студентського обміну</a:t>
            </a:r>
            <a:br>
              <a:rPr sz="2500"/>
            </a:br>
            <a:r>
              <a:rPr b="1" lang="uk-UA" sz="2500" spc="-1" strike="noStrike">
                <a:solidFill>
                  <a:srgbClr val="000099"/>
                </a:solidFill>
                <a:latin typeface="Georgia"/>
              </a:rPr>
              <a:t>(</a:t>
            </a:r>
            <a:r>
              <a:rPr b="1" lang="ru-RU" sz="25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99"/>
                </a:solidFill>
                <a:latin typeface="Georgia"/>
              </a:rPr>
              <a:t>Summer Work</a:t>
            </a:r>
            <a:r>
              <a:rPr b="1" lang="uk-UA" sz="25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99"/>
                </a:solidFill>
                <a:latin typeface="Georgia"/>
              </a:rPr>
              <a:t>and Travel</a:t>
            </a:r>
            <a:r>
              <a:rPr b="1" lang="uk-UA" sz="2500" spc="-1" strike="noStrike">
                <a:solidFill>
                  <a:srgbClr val="000099"/>
                </a:solidFill>
                <a:latin typeface="Georgia"/>
              </a:rPr>
              <a:t>)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04920" y="1371600"/>
            <a:ext cx="85010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Літня програма студентського обміну –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це унікальна програма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для студентів вищих навчальних закладів. Вона дозволяє їм провести  літні канікули в США, працюючи і ознайомлюючись з американською культурою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Більшість учасників зазвичай працюють в сферах, що не потребують певної кваліфікації: в сфері обслуговування на курортах , в готелях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ресторанах і парках розваг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4" name="Picture 5" descr="http://lasnark.com/wp-content/uploads/2009/02/fast-food-food-poinsoning.jpg"/>
          <p:cNvPicPr/>
          <p:nvPr/>
        </p:nvPicPr>
        <p:blipFill>
          <a:blip r:embed="rId2"/>
          <a:stretch/>
        </p:blipFill>
        <p:spPr>
          <a:xfrm>
            <a:off x="457200" y="3886200"/>
            <a:ext cx="2043000" cy="24192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" descr="http://1.bp.blogspot.com/_dXfyONy10vk/SfOi4PNPo4I/AAAAAAAABvY/KCSFS-ndJB8/s400/AmusementPark.jpg"/>
          <p:cNvPicPr/>
          <p:nvPr/>
        </p:nvPicPr>
        <p:blipFill>
          <a:blip r:embed="rId3"/>
          <a:stretch/>
        </p:blipFill>
        <p:spPr>
          <a:xfrm>
            <a:off x="5791320" y="3886200"/>
            <a:ext cx="2895480" cy="2394000"/>
          </a:xfrm>
          <a:prstGeom prst="rect">
            <a:avLst/>
          </a:prstGeom>
          <a:ln w="0">
            <a:noFill/>
          </a:ln>
        </p:spPr>
      </p:pic>
      <p:sp>
        <p:nvSpPr>
          <p:cNvPr id="776" name="Footer Placeholder 4"/>
          <p:cNvSpPr/>
          <p:nvPr/>
        </p:nvSpPr>
        <p:spPr>
          <a:xfrm>
            <a:off x="2971800" y="640080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304560" y="1523880"/>
            <a:ext cx="850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я категорія призначена для іноземних студентів, фахівців соціальної сфери, які працюють із молоддю, та інших осіб, які відповідають специфічним вимогам програми. Вожаті спілкуються з групами американської молоді, наглядаючи за ними і проводячи заняття на території табору під час літніх канікул в СШ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7562-3BF4-43B3-B1AF-D7F2837CACEE}" type="slidenum">
              <a:rPr b="0" lang="en-US" sz="1600" spc="-1" strike="noStrike">
                <a:solidFill>
                  <a:srgbClr val="7b989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9" name="Picture 6" descr="http://media.rd.com/rd/images/rdc/mag0807/camp-counselor-af.jpg"/>
          <p:cNvPicPr/>
          <p:nvPr/>
        </p:nvPicPr>
        <p:blipFill>
          <a:blip r:embed="rId1"/>
          <a:stretch/>
        </p:blipFill>
        <p:spPr>
          <a:xfrm>
            <a:off x="380880" y="304920"/>
            <a:ext cx="4630680" cy="29718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7" descr="http://www.campunahliya.org/resources/citisweb.jpg"/>
          <p:cNvPicPr/>
          <p:nvPr/>
        </p:nvPicPr>
        <p:blipFill>
          <a:blip r:embed="rId2"/>
          <a:stretch/>
        </p:blipFill>
        <p:spPr>
          <a:xfrm>
            <a:off x="6172200" y="380880"/>
            <a:ext cx="2104920" cy="274320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Програма вожатих у таборах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 (</a:t>
            </a: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Camp Counselors  program</a:t>
            </a:r>
            <a:r>
              <a:rPr b="1" lang="uk-UA" sz="2800" spc="-1" strike="noStrike">
                <a:solidFill>
                  <a:srgbClr val="000099"/>
                </a:solidFill>
                <a:latin typeface="Georgia"/>
              </a:rPr>
              <a:t>)</a:t>
            </a:r>
            <a:r>
              <a:rPr b="1" lang="uk-UA" sz="2800" spc="-1" strike="noStrike">
                <a:solidFill>
                  <a:srgbClr val="000099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819520" y="6400800"/>
            <a:ext cx="3581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Tahoma"/>
              </a:rPr>
              <a:t>Посольство США в Україні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2:44:13Z</dcterms:created>
  <dc:creator>ShygirtVY</dc:creator>
  <dc:description/>
  <dc:language>en-US</dc:language>
  <cp:lastModifiedBy>ShygirtVY</cp:lastModifiedBy>
  <dcterms:modified xsi:type="dcterms:W3CDTF">2013-04-02T09:18:55Z</dcterms:modified>
  <cp:revision>187</cp:revision>
  <dc:subject/>
  <dc:title>Slide 1</dc:title>
</cp:coreProperties>
</file>