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ECC-F4BF-4CAA-A362-C03C0BF8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7AF-7039-4D7A-BB54-A761152C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873-BD8A-4722-86B9-A78FA7D2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7E6-AEA7-40BA-9FFB-DC36F73E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B0C-3A7F-4190-BDDC-E41E58E6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99D-49B5-4927-8D74-05FCEE9B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CD0-C5AC-4982-9B1A-CE1C3CA3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D1F-A360-436B-9B3A-53C694CB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B40-F54B-4627-B646-D62355E0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D45-3AC3-4F79-B5FD-6D0CF85E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97C-0BDD-40F8-B5FB-C909A26C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99F-66A4-4DE0-835F-C56DE3A6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89FA-C972-486A-800D-0039FBDEA9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The U.S. Ambassador in Ukraine Mr. John F. Te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684360" y="599112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Your Excellency, Welcome to DonNT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79640" y="765000"/>
            <a:ext cx="5113440" cy="51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857160" y="903240"/>
            <a:ext cx="7500960" cy="49579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571680" y="1534680"/>
            <a:ext cx="8215200" cy="40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Дні Америки у Донець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3-6 квітня 2013 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Calibri"/>
              </a:rPr>
              <a:t>Ярмарок освіти в С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Calibri"/>
              </a:rPr>
              <a:t>3 квітня 2013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Донецький національний технічний університ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Calibri"/>
              </a:rPr>
              <a:t>вул. Артема 58, корпус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831960" y="901800"/>
            <a:ext cx="7526160" cy="5027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500040" y="1073520"/>
            <a:ext cx="8215200" cy="47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4:00 - 14:30   Посол США Джон Теффт відкриває Ярмарок осві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4:40 - 15:40   Презентація "Огляд академічних програм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фінансованих урядом США та індивідуаль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ожливостей  для школярів, студентів, аспіранті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уковців, вчителів  та викладачів вузів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5:45 - 16:45   Презентація "Вступ до університетів СШ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Як досягти успіху в процесі всту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а отримання фінансової допомог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6:50 - 17:45   Презентація "Все про студентські візи"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286800" y="116676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-й  корпус  Б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785880" y="901800"/>
            <a:ext cx="7500960" cy="50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1000080" y="1000080"/>
            <a:ext cx="7243920" cy="47862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5108400" y="1293840"/>
            <a:ext cx="299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Аудитория  1.0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flipH="1">
            <a:off x="1142280" y="2286000"/>
            <a:ext cx="764388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5:45 - 16:30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Програма  глобальног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студентського  обмін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6:35 - 17:30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Програма для учні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середньої  школ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обміну  майбутніх лідерів (FLE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857160" y="901800"/>
            <a:ext cx="7500960" cy="50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1000080" y="1000080"/>
            <a:ext cx="7243920" cy="47862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5108400" y="1293840"/>
            <a:ext cx="299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Аудитория  1.2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 flipH="1">
            <a:off x="1285200" y="2071800"/>
            <a:ext cx="7643880" cy="34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6:00 - 16:45 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Програма ім. Фулбрай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для науковц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6:50 – 17:20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Програма фонду Карнег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7:25 - 18:15 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Програми ім. Фулбрай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для студентів, аспіранті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і молодих викладачі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університет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3"/>
          <p:cNvSpPr/>
          <p:nvPr/>
        </p:nvSpPr>
        <p:spPr>
          <a:xfrm>
            <a:off x="857160" y="901800"/>
            <a:ext cx="7500960" cy="50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1000080" y="1000080"/>
            <a:ext cx="7243920" cy="47862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108400" y="1293840"/>
            <a:ext cx="299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Аудитория  1.2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 flipH="1">
            <a:off x="1142280" y="2286000"/>
            <a:ext cx="764388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16:50 - 17:30    Програма уряду України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фінансування навчанн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за магістерськими програмам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у СШ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17:35 - 18:15     Програма фонду Пінчука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ld-Wide Studies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857160" y="903240"/>
            <a:ext cx="7500960" cy="49579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571680" y="1511280"/>
            <a:ext cx="8215200" cy="38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Інформаційна виста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естибюль 1-го корпусу ДонН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-й пове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14:00 - 18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3:19:46Z</dcterms:created>
  <dc:creator>Loner-XP</dc:creator>
  <dc:description/>
  <dc:language>en-US</dc:language>
  <cp:lastModifiedBy>pben</cp:lastModifiedBy>
  <dcterms:modified xsi:type="dcterms:W3CDTF">2013-04-03T07:19:06Z</dcterms:modified>
  <cp:revision>24</cp:revision>
  <dc:subject/>
  <dc:title>Слайд 1</dc:title>
</cp:coreProperties>
</file>