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914-A857-47EA-9A75-A601F384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674-DA85-40EA-B61D-94989845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D28-A2D9-41BF-978E-EC3D1481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603-E73F-4686-9D49-39C6B398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174A-3C26-4B86-8E88-927FD0B2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0A71-FA34-43F1-8218-38985B80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1909-F918-4E94-9BD2-084889E5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1A12-F6D8-418D-952B-BA1E7275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A027-2ECD-4957-BF14-EB90B2E7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4B45-DFE2-460C-AEF5-F2ED458E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4794-C69B-4809-AA7C-A742F17F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CEB-362F-4BAA-9374-04F4CA64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7106-A5B5-4A12-954D-A3C4A5C0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20C9-8C31-4981-8A99-5E44F7E2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0A66-1979-4D09-A788-F875AF77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D2F3-0E61-4D7C-9480-081B4DCF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5708-D2BE-48CF-917F-5C94ED32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5E2-BB29-480F-8344-6D972E19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E55-9E84-4C19-98EF-6212B089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53B-319E-4BE3-978D-4F628143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2AD-3B04-4F69-820C-691F7DB9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A8E-B777-4E9D-8ED7-F8481968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E2D-E995-47F0-B954-8E375174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228-E003-4725-A364-7AEEBC80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ADFE-DFFF-4D8B-B78D-83F357ED51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E9DE-03B9-49DA-8A97-092E4AF745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84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УПРАВЛЕНИЕ УСТОЙЧИВЫМ РАЗВИТИЕМ: 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ОНЦЕПТУАЛЬНЫЕ ОСНОВЫ, 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РОБЛЕМЫ, ЗАДАЧ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3280" y="3886200"/>
            <a:ext cx="63691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епанова Елена Александров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.э.н., доцент ДонН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дународная конферен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ологический менеджмент ка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авляющая часть устойчивого развити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нец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2-23 октября 2004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устойчивост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ституциональ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прозрачные государственные институ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рруп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совершенное законодатель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тиворечивая система налогообло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вленческ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адекватные мет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старевшие техноло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достаточная информирова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Национальная система управления состоянием ОС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821844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циональная стратегия и план её реа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раслевые планы и програм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колого-экономическая интеграц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четание административных и экономических инструм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тмосфера согласия и партнёр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Экологический менеджмент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2852640"/>
            <a:ext cx="821844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отвращение загрязне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циональное использование природных ресур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имулирование предпринима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ширение сферы ответстве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инципы устойчивого развития компан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306864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стижение конкурентного пре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е результативности управл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ёт интересов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тейкхолдер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stakeholder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сихологический климат реформирования управлен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общее экологическое образ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уляризация устойчивого развит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держка неправительственных  и государственных природоохранных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оритетность научно-технических решений в области ресурсосбере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едрение новых этических нор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амоорганизация управления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000" y="314172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вентив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рректировка с учётом прогн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легирование полномочий нижним уровням управл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рганы по координации устойчивого развит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15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петенци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формир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гнозир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анир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значени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теграция осуществления национальных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гиональных, локальных програм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еспечение сотрудничеств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полн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9152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Мы упорно стремимся ко все большему экономическому росту, видя в нем залог улучшения жизни, но население при этом не обязательно становится счастливее. А если учесть, что рост ВВП сопровождается разрушением окружающей среды, то следует задуматься, в наших ли интересах развитие такой цено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Британская комиссия по устойчивому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«Новый порядок» взаимодействия с природой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2565360"/>
            <a:ext cx="77979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кологические огранич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ощение ресурсного потенциа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черпание ассимиляционны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мож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менение ценностных установо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вые потребительские стереоти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ребность в экологическо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з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онцепция устойчивого развит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36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оритет гуманистических ценностей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ое партнер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ланс экономических и экологических  интерес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вентивные и упреждающие ме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жсекторальное сотрудниче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интересованность общества, бизнеса, прави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аптация систем жизнеобеспечения к природным структур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Экономика роста или стабильная экономика?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793116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енное увеличение – максимизация стоим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чественное улучшение – максимизация жизни всех биологических ви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.Дей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«Новая экономика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000" y="3068640"/>
            <a:ext cx="800244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нов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руктурные преобра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оритет качественных показ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Теор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2923920"/>
            <a:ext cx="814716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логическая экономи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общий менеджмента качеств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Q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логический менеджмен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нституализац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821844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кларация Рио - 199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кларация тысячелетия -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атегия  устойчивого развития ЕС - 200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Шляхом європейської інтеграції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20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тратегія сталого розвитку України (проект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Рейтинг Украин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915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место в мире по выбросам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О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пливно-сырьевой сектор – половина промышленного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ьзование ресурсоёмких и энергоёмких технологий – 40% эконом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ровень инновационной активности -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12,7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мировой экспорт высокотехнологичной продукции – 0,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асходы на науку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4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%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ВП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стойчивость экономики Украин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852640"/>
            <a:ext cx="821844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10 место среди 122 стран (Даво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11 место среди 146 стра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семирный фонд дикой природ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8 место среди 180 стра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оберт  Прескот-Але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4:08:57Z</dcterms:created>
  <dc:creator>Мастер</dc:creator>
  <dc:description/>
  <dc:language>en-US</dc:language>
  <cp:lastModifiedBy>Мастер</cp:lastModifiedBy>
  <dcterms:modified xsi:type="dcterms:W3CDTF">2004-10-21T20:55:05Z</dcterms:modified>
  <cp:revision>12</cp:revision>
  <dc:subject/>
  <dc:title>Слайд 1</dc:title>
</cp:coreProperties>
</file>